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dt" idx="6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 type="ftr" idx="6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6"/>
          <p:cNvSpPr>
            <a:spLocks noGrp="1"/>
          </p:cNvSpPr>
          <p:nvPr>
            <p:ph type="sldNum" idx="6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2E26-339E-4C4D-856B-9938506AC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2F91-5E53-44E5-B1C3-55A81BE7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0966-D0C0-4D81-B3E3-D895E5497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026-FD26-4DE4-881D-C2862778A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0C6-EB75-4461-AF0F-67857C573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1BF-3CC2-4619-BBD5-DFBF45462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087-FB59-4E6D-8507-E61203839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E009-EA08-4028-8324-95A2D7EA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9BDE-CE2F-4E78-B3F6-EB5073551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F545-0300-433C-AC52-5143CC6D4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D49D-FAAE-41C5-B948-258F27EB2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92B4D-005B-4C37-9726-27F5296C7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9A63-C1D0-4932-BA9D-9EB255049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0ED-8EC5-45A6-9867-0B92E5E6C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AE91-9B5D-4FAB-B06C-C28A45575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7B42-CFA8-4E24-94BE-0D4A7C222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AB52-8A81-4373-A431-4CB00BF67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B8D-D847-4C99-AC59-291D1BD8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56CF-B47A-4894-9F67-E614CFC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4F878-35BB-42A0-9363-746A049D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81E59-9B3E-4F87-B456-438CFA59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29AE9-AF9B-4958-B073-EB9F3147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BC9DC-5E4B-4724-BF99-EBD300A7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B3093-BB2A-4473-80E4-24B81121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BA7FF-498E-43A2-BB25-6C5D34E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685F6-8454-4F81-8424-7DF134BE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9AE71-F28E-44B8-BC05-C33E7BF3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27C5C-5E48-41BE-B396-2A13CC5A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6689-ACBC-451D-9519-437129928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2B1-7E3D-4E79-9E89-056E102D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E1C64-805E-4DF2-9F23-8FFE6480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6E943-C2E4-46D7-8B7E-72FF9170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2C5E4-D02B-4D1C-BCBF-A6E4C09A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752A4-60C4-4C45-8DEC-80358AB1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FBC08-F49E-4F68-9907-D2A7CF26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CE45C4-A073-4703-974F-B4BA977E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1E2DAD-95C7-481A-A7DF-F6987BDB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738F4-E1FE-4AD5-8C22-83CAF9C5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859A7-EF8B-46F3-9421-8F2AED107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D906-FAFA-4435-98D6-F7CB0CE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25AD-DDA6-4980-9931-D66DAA8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48D50-74D3-426E-823A-B81350028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026DB-CAE3-4BFF-9BE3-90897A7A2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11153-EE78-4ED6-97C3-1DDB289D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A3EA8-2AAA-492B-A6D8-8A0B0632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20130-B019-4216-BDDD-E972792D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3F0D7-DE34-435A-9823-2A9274B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57A8D-1A7D-4DF5-89BE-B2BB211E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28236-ECD9-437D-8E15-17BCC31B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B7AC-FB41-4C51-8B4F-755E9BE8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359B7-0276-4263-8050-9FA3856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2076F-FA6C-4B97-B52C-BDE25F10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328C3-8DF4-445C-8576-EBFD9A59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F9EFC-E5BB-49B7-8DE9-2519C22E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AE04E-9E73-4B3C-A08D-0F1CCE3C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9CF0F-4627-4CB0-952B-A1D07EF3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5D734-E8D0-4435-B9CC-BB8B1F19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A2359-E2E9-490B-91B1-4A4137A9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CDD08-073F-4DA2-A100-DC74E5C0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CC295-2271-4981-8967-A0444FA3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E2AA3-C2DB-443F-AE12-DD33330A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2101F-7769-48C3-8FE1-0163D46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A89B9-9A14-46AC-8D12-37888211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2E902-96FC-415B-9500-8EE2B5858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0B1A8-11F6-4DEF-83F2-CAE7F58F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19B3D-F79B-4AC5-9986-7C817DD2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94FE8-A73D-426F-A7C8-ED065D35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5F73-36F7-4FAA-B4F5-4E22E85D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F93C1-EF44-46D5-A086-32182672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E5279-C0C8-4847-8ABF-1A14F355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5C3C0-C5FE-4114-9BB5-3869BEBB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387B71-80B2-4C82-A29A-34446606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75A10-1D5E-408A-8BFB-9201751C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23180-E43C-4DF0-998D-2C8CF1E8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57635-5295-4D55-8DC0-6BE482D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8AC40-3F5C-4379-B138-D7E0BB5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D39816-1330-4987-90BC-37D5B711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42964-36BC-4FC0-8E95-9FE71F5D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D0C8E-5CD5-4EE5-94C0-321C83DF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2E5E-FE1E-4282-95D6-D0B0495A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FD282-467B-4DD5-9EE1-3B89327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07B07-E3C0-4205-A612-4ADAD3C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F590C-3D69-4D75-904F-8F4B0178B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D516E-F7F1-4AFA-A729-A790E48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30512-449E-49C8-97F4-3253E083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26BF1-5FC6-4BED-AF7B-1230D2B0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BA92B-CEB0-4DCD-9F0B-66F22DB2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8D15BB-92E0-4001-BC2C-F3FFAAB7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ED71FE-92B6-4360-9241-F8C2B794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C0CD74-FE77-44FA-90B1-B4689DC4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32D67-274B-4D71-8A8D-BF3FD062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7E8C6-022C-43AE-8CE4-725BAB12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26EBB-A338-4CD6-9986-8C98363B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75153A-1418-4E75-BD4D-5A447ED7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E24356-2D1E-41B8-8971-552226FC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A3FB3-74E6-49F7-A371-860C977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BB020-970D-48A0-8530-17EB73F6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B48F2A-4868-42DC-A8BF-2861719D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7DC483-B62C-4F1B-BD09-4D27DFBD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EAECF-1780-4A0B-AF57-488D6774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98A18-8F73-43C4-8741-D967313C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788D6-E1A3-4B86-9D8C-E5ED66D3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46B57B-D595-41CE-B35B-E4A23454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D024B-689E-4277-ABD0-469781AE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F9780-E858-4057-90F2-02B1105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A1677-F9CE-4EDC-B8A5-E5F7D0A6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643B4-5A60-41A4-AD4E-29B77925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45E8E-2BB5-43E6-8B8E-DCBC4F05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93AB6-AD33-4810-A898-C4943C5E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6B098-753E-4A2D-B967-C27BC627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87FBD-0DE7-4DE6-8253-F6F6349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829BD-61D3-4ADD-A5BD-90E32E35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E76F5-A0A2-48CE-8EDA-9DE503EE3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BDDDB-FB3F-40CD-899A-954FCF375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5BAFA-71E4-4F86-9D4D-065E76EF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583127-6ACA-40D9-A4A9-91F5BCE1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A55D60-EF67-4E61-AEDB-B643822E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DD2E18-9949-4B7A-A5F7-405A45AC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7ADAA-F33E-40DA-8776-D2149416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A1960D-E4F7-4FEA-A86C-7CC595B0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82BAE-9264-4CE4-A6FC-CEB3F0CC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E67-DFDA-42D2-9D5A-EDAB240F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DCC4E-57F7-4AEE-9ACE-F1C658A2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7B13C-CCD4-402B-81F6-787AEA9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DA0E20-C0B5-4B78-BBB3-76B8B366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5F742A-8798-4A24-B53F-BC349B0D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74A3A6-3E25-44CA-A3AA-736BBDAD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B9018-428B-4433-9CD8-B37810E0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C6C20-2998-4F31-8FBB-08112DF2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B81D3A-710E-4C42-93AD-B46D71AD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D23BA-CE10-43A4-84C7-E60B5FE3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ADC49-5AFE-4CBB-BC4C-90CDB69B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6308C8-8657-470D-9CF5-436DFB6B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DAE7F0-0995-43DE-B9EE-FFDC791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8EEA1-8E5F-4110-9B2D-564C6AC4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6E814-B1DD-4C62-B758-282E4B35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5F4111-B2E5-4F42-B50D-0046241D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A0D86E-4360-4235-A46A-ABA60CB1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0EE0B-11AD-474F-B5CF-0E932CD3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1DD2C-5E6C-4A89-8EEB-E79D36F3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AE701F-8F7B-459E-A815-FA3EB442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0204B6-1642-4EDC-AA84-7E676E14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6DD7CB-6B3E-4095-A604-48C74BAC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721C14-F9CE-4047-8491-0077381B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271EB-1CBC-424B-BCA2-9F4050CE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DD8C64-0407-4E1F-8B85-9B3F8298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711F68-0D5A-443F-AD18-7CB20503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433CDD-F996-4239-B89D-1B412B2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23648D-0EBD-4197-A209-6A65DC53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9BB3E-9A1D-4BE6-9EF0-40B658D3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10096-85FB-481F-8429-A5227A01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8AEF0B-5410-412C-B2E8-E2479584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EE7CD6-0501-40B6-95F5-40FDFC4D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BA88B7-E6F1-4638-9B84-FE037E3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ACF62-E8C7-4C24-AC49-86E16200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31EA5E-C384-4F5D-8931-AEB6282C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2C533-81D8-459E-AFE9-763456A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CCB6A5-10E2-4816-858B-C20F4F3F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85B94-9DCB-4DF3-820A-60980385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B01E7-2B2C-4404-9CA1-84AB5CCE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8673D-E97A-421E-87F0-24E9B594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93FBD2-71AC-4923-BBCE-7A075C15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4D6A9F-D3C9-4F24-9885-B1F5DB87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2420E-714B-4C50-B916-021CC154C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496E85-E1B5-4F32-A03A-1CAC2C0C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CF6D49-46DA-4D35-B317-4E2EBBFB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D15F4-5732-40D4-A0DC-1D65696C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21E6CE-0EBF-4822-B39C-B95AB517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AE470-D33E-4757-8D69-CD00C09A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0B19B5-2F02-4C34-9E6E-DA29F7F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CD2C48-CD16-4168-AE0D-D0E9301D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FD4DF-CF1D-4C79-B224-8E875A8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E78D17-05E1-4C01-B066-F8EF8C12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05D31E-F30D-49B6-A222-EEC704A8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0B8A15-8079-4198-957E-27893C2B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B18C75-5691-47DE-B352-B339444D1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CA28B-F9F9-4D8C-B9A8-6218665C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426A08-4482-464E-89DB-F386F3B8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99E47-D456-4D07-A41D-B037E71B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67E1DE-5A00-464B-9952-6781CC31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867C5-3D32-4F00-9620-66D3A03F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ED21C-F7BB-46CC-9048-F10625C6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8809F3-2A56-4EBF-93B4-71559BC3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EED911-03EF-40C8-A7A1-DDDA0EE9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E6C1F1-5326-447F-A3D4-092598E2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0352DC-4871-4F44-A687-28D02718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BA3812-F05E-499E-A56C-905D4DDD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D6BD0-D960-40D7-914D-3A83F519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E8A2B-B095-4F65-B746-0A4E9508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8E4CE7-21D1-412C-959A-6AFC9E12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D15F33-A606-4EE0-B570-21B66035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BE326E-2009-4D66-A333-D6D95BBC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E2E36B-B046-4B7D-BC7C-C64C458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CD790-9E6B-4083-9429-B033E6F1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DBA48-98C3-49CA-873D-943FD4BC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1E3AF-2B5F-407A-8723-4CF8A463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F52768-1C89-4182-B24C-F95C9C7F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50BC8-3E89-4803-A192-1E851211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EB24C-9AFB-4CA1-A57F-7B958D5F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7467A4-AEAF-4E69-B112-1CDB15E8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843BEC-5855-418E-80DD-1F2C86C4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11824-5FB2-4E44-B467-A96DB3B2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81D19-C64E-4F32-93B1-59AA3E7D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842B39-1DE9-4B44-BC9A-A01643AB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EB6F4-CB50-41D1-9ADC-3BB7130A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5E6BA3-DFCF-4A9C-B5B6-765ED95A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F1D22B-DC2C-499C-8CB9-2825DC20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45EAA2-E5FA-46E7-ABC1-366EECCB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B09F00-B700-42B7-938D-4344C0291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D96579-357C-4242-991B-C2479BA5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37772E-9E0B-4EC4-979E-B3ECB631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0C1-9874-4176-A8BC-D4C953D8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4201-D243-46CC-A7EA-347F31E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A297-E7A0-45F5-8C7D-25F1CE92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6323-25B7-4BFC-8423-26B3CC9F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6DF-3254-43B8-BB5B-30F7B48B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8B61-DE49-4CE0-8ECF-98D32149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2486-B142-40A9-ACDC-32E972B2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FFD3-FC16-4A8B-8A55-5912D993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7F86-73B9-4E78-B689-31D94A9E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6FEC-138F-4E7E-971C-CE4BECC7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2F51-F498-4FF2-BCD1-96E9F596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882C-2ADA-43FB-9317-77FD4792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4979-FB47-428F-A954-EF5FA8F4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0DD2-2C96-41E4-A88E-E1E7141E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B756-54B8-4BBF-A6C1-238AD14C7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A7FF-4A73-499A-913E-C15A42BE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CAE3D-C223-4B42-89F4-F175C3B1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2B5FF-B531-4EB3-8A10-285E5813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97DA-730D-4527-A42E-3C762AE4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9A30F-AE41-45A8-9602-59F80FD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8D71-2E8E-4C3E-89CC-425C7298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E946E-A6A1-4845-B0B7-AE92C1F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5111-EDD2-49A0-9D47-1B0032E1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D1323-68B4-4E82-AC46-30D2FBE2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437A4-7F3F-47BC-ACDD-85C4A89E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56CDA-C27F-4D3F-A5DD-70818A6D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F79-A675-453F-9EF4-33DB0308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1C2F-E6B6-457E-9077-827D8070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7571-BD64-4163-B8F0-C165E446D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516E9-E7A0-4B8F-BC1F-165B8EDE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E0939-EE28-43D1-A905-33D33DD5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E8320-832D-4554-9DCA-77477B99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8C59F-B768-4B14-9640-048FEAE3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08FCC-2ABB-4144-B4A7-EE6FB7ED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58081-FCB8-4189-A9EC-C6818D74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F79A3-8251-402E-A799-2DC38FB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B8368-79CE-4D23-B347-453601E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53F9-2C4F-476E-956F-9C3FE53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C007-EA9F-4FD3-991A-6493D16D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0601-0461-4F0D-9BD3-3DE4AEA0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CB39-A1EC-42ED-B4E9-DBFA978E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3E44A-2654-4654-9B4E-8B242EAA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3B395-94CB-4803-AE42-55799978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A575-37D6-4DE9-9D26-50C924AB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ED217-E90E-4017-9699-4F790C0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2B513-72FF-4084-87CA-84916755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56F57-4107-4B6F-A16D-CAABCA59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738E9-12C4-4D57-AFDF-514157CB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163-4388-4BAF-BB72-0065344F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2E992-7486-443D-BF94-ACFADB31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0CEC0-C4C0-46B1-AF6C-5A381D41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5B70B-3629-47A5-A2A0-03267508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208CD-1EEB-4A28-B149-38120F85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23E5-8C7C-46B1-998E-5C8371E2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1BFE6-CC8C-4E5E-AAAD-74424CB45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3E62B-0E59-47CC-98A7-8E90D3A1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F1622-02C0-4986-86A2-F643C52A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26615-DC1E-4279-A2EA-315E5B05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39124-CDEE-4BF2-B6F3-2C3188B3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911C-4637-4B85-A87A-5DD2445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05378-470C-4E2F-A161-2CAA9751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966EE-8B3C-499A-8ECB-A1DDEA20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05E17-6E15-4D54-8C46-FCE52A20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AE996-24A0-48BB-934F-991A1C7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CF626-F9CA-44E5-ABBB-B7CE5B0E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39CC1-F629-4DC4-95A2-A882B60A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09F7B-1E3A-4D58-BC52-5F0BA00A3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DC04B-2C41-4281-A915-F280398D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15A93-791E-4669-B61D-096C7D2F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52C7E-84D2-41BF-9126-CDD126B5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97EE-FF09-4330-A76C-C4AF2ACEE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dt" idx="2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2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5D2-0CBE-40E5-8C1C-E6393F909B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dt" idx="2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ftr" idx="2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2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F327-AD94-456C-8499-FAE6D4374D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dt" idx="2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ftr" idx="2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Num" idx="3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7A5-A05A-476C-B419-61E6F69914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dt" idx="3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ftr" idx="3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sldNum" idx="3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1856-2B40-417B-88AD-A3B706D233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dt" idx="3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781C-11C5-42EB-80A6-7F2CDE6EEA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7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7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8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8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9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79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0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04" name="PlaceHolder 1"/>
          <p:cNvSpPr>
            <a:spLocks noGrp="1"/>
          </p:cNvSpPr>
          <p:nvPr>
            <p:ph type="dt" idx="3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ftr" idx="3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 type="sldNum" idx="3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9BF8-95C4-4EF9-B950-5D8D934DF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dt" idx="4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4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4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A74B-2BE2-4207-A960-C278758183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3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4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5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0" name="PlaceHolder 1"/>
          <p:cNvSpPr>
            <a:spLocks noGrp="1"/>
          </p:cNvSpPr>
          <p:nvPr>
            <p:ph type="dt" idx="4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ftr" idx="4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Num" idx="4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2D75-5465-44DD-B3B8-62F1716BFE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0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1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1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1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2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2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2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3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3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dt" idx="4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ftr" idx="4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sldNum" idx="4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70A1-8B26-49B4-BB8C-956E1FE78E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9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9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1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dt" idx="4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ftr" idx="5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sldNum" idx="5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5ACD-BB61-4FEC-9890-7D97C9C55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PlaceHolder 1"/>
          <p:cNvSpPr>
            <a:spLocks noGrp="1"/>
          </p:cNvSpPr>
          <p:nvPr>
            <p:ph type="dt" idx="52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ftr" idx="53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sldNum" idx="54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392-374C-4C48-9DB8-2503EEDDB3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4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5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6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72" name="PlaceHolder 1"/>
          <p:cNvSpPr>
            <a:spLocks noGrp="1"/>
          </p:cNvSpPr>
          <p:nvPr>
            <p:ph type="dt" idx="55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ftr" idx="56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sldNum" idx="57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4773-B08B-4EA3-BC21-99BD5DB8A3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0" name="PlaceHolder 1"/>
          <p:cNvSpPr>
            <a:spLocks noGrp="1"/>
          </p:cNvSpPr>
          <p:nvPr>
            <p:ph type="dt" idx="58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ftr" idx="59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 type="sldNum" idx="60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C1AC-D47D-4B32-9984-933CDC0D66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dt" idx="6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ftr" idx="6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sldNum" idx="6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DDC7-DE77-42C6-B177-3ED025C720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06" name="PlaceHolder 1"/>
          <p:cNvSpPr>
            <a:spLocks noGrp="1"/>
          </p:cNvSpPr>
          <p:nvPr>
            <p:ph type="dt" idx="6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ftr" idx="6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 type="sldNum" idx="6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19E-B2FF-4056-8163-E373EA045D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6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7774-726E-42D8-9FBA-C3BC1005EE8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4861-A211-4A89-9570-48D0A491A4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dt" idx="10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1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E991-43ED-42D4-A8AD-D0B992B72D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dt" idx="13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14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5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F9FC-73D6-4C4F-8EBE-82F8ADAEA5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6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ftr" idx="17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18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D51C-3D44-422A-8D8F-0705DDD614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044E-BA32-40C5-B786-12BDFF39BB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BJECT-VERB AGRE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53" name="Picture 4" descr="j0078798"/>
          <p:cNvPicPr/>
          <p:nvPr/>
        </p:nvPicPr>
        <p:blipFill>
          <a:blip r:embed="rId1"/>
          <a:stretch/>
        </p:blipFill>
        <p:spPr>
          <a:xfrm>
            <a:off x="4025880" y="3886200"/>
            <a:ext cx="1090800" cy="17524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or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1" i="1" lang="en-US" sz="3200" spc="-1" strike="noStrike">
                <a:solidFill>
                  <a:srgbClr val="3333cc"/>
                </a:solidFill>
                <a:latin typeface="Tahoma"/>
              </a:rPr>
              <a:t>or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verb agrees with the part of the subject closest to 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ofessor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students wal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tudents or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the professor wal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hal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AutoShape 4"/>
          <p:cNvSpPr/>
          <p:nvPr/>
        </p:nvSpPr>
        <p:spPr>
          <a:xfrm>
            <a:off x="6110280" y="3548160"/>
            <a:ext cx="1752480" cy="38088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AutoShape 5"/>
          <p:cNvSpPr/>
          <p:nvPr/>
        </p:nvSpPr>
        <p:spPr>
          <a:xfrm>
            <a:off x="6153120" y="5491080"/>
            <a:ext cx="1676520" cy="45720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out for “Everybody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8" name="Text Box 3"/>
          <p:cNvSpPr/>
          <p:nvPr/>
        </p:nvSpPr>
        <p:spPr>
          <a:xfrm>
            <a:off x="1143000" y="2179800"/>
            <a:ext cx="70102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ov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ammar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verybod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derstand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several words come between the subject and the ver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Text Box 4"/>
          <p:cNvSpPr/>
          <p:nvPr/>
        </p:nvSpPr>
        <p:spPr>
          <a:xfrm>
            <a:off x="457200" y="3233880"/>
            <a:ext cx="80010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udent, though she had lots of problems in other schools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/find (?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tud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hough she had lots of problems in other schoo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tudent fi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 new class eas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epositional phr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440" y="1881000"/>
            <a:ext cx="80773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ubject can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never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be part of a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repositional phrase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tudents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n my 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tudy / studies  ha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AutoShape 6"/>
          <p:cNvSpPr/>
          <p:nvPr/>
        </p:nvSpPr>
        <p:spPr>
          <a:xfrm flipV="1">
            <a:off x="2301840" y="4388760"/>
            <a:ext cx="3657600" cy="124308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181800 h 1243080"/>
              <a:gd name="textAreaBottom" fmla="*/ 1061280 h 1243080"/>
            </a:gdLst>
            <a:ahLst/>
            <a:rect l="textAreaLeft" t="textAreaTop" r="textAreaRight" b="textAreaBottom"/>
            <a:pathLst>
              <a:path w="21600" h="21600">
                <a:moveTo>
                  <a:pt x="16602" y="9244"/>
                </a:moveTo>
                <a:cubicBezTo>
                  <a:pt x="15898" y="6618"/>
                  <a:pt x="13518" y="4793"/>
                  <a:pt x="10800" y="4793"/>
                </a:cubicBezTo>
                <a:cubicBezTo>
                  <a:pt x="7482" y="4793"/>
                  <a:pt x="4793" y="7482"/>
                  <a:pt x="4793" y="10800"/>
                </a:cubicBezTo>
                <a:cubicBezTo>
                  <a:pt x="4792" y="11202"/>
                  <a:pt x="4833" y="11604"/>
                  <a:pt x="4914" y="11999"/>
                </a:cubicBezTo>
                <a:lnTo>
                  <a:pt x="217" y="12956"/>
                </a:lnTo>
                <a:cubicBezTo>
                  <a:pt x="72" y="12247"/>
                  <a:pt x="0" y="11524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5687" y="-1"/>
                  <a:pt x="19965" y="3282"/>
                  <a:pt x="21231" y="8002"/>
                </a:cubicBezTo>
                <a:lnTo>
                  <a:pt x="23839" y="7303"/>
                </a:lnTo>
                <a:lnTo>
                  <a:pt x="20237" y="13546"/>
                </a:lnTo>
                <a:lnTo>
                  <a:pt x="13994" y="9943"/>
                </a:lnTo>
                <a:lnTo>
                  <a:pt x="16602" y="9244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Text Box 8"/>
          <p:cNvSpPr/>
          <p:nvPr/>
        </p:nvSpPr>
        <p:spPr>
          <a:xfrm>
            <a:off x="7067520" y="4317840"/>
            <a:ext cx="4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1406160" y="918720"/>
            <a:ext cx="5481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06120" y="1704600"/>
            <a:ext cx="79628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, the subject will com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verb, in questions or when sentence begins with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the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the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alling aslee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no excu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uch behavi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sible Pitfal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14520" y="1909800"/>
            <a:ext cx="807696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e Pronou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who/which/th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can be either singular or plural, depending on the word they refer 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tudent who wor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tudent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who wor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ard will succe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AutoShape 6"/>
          <p:cNvSpPr/>
          <p:nvPr/>
        </p:nvSpPr>
        <p:spPr>
          <a:xfrm flipH="1">
            <a:off x="2556720" y="4529160"/>
            <a:ext cx="1428840" cy="299880"/>
          </a:xfrm>
          <a:custGeom>
            <a:avLst/>
            <a:gdLst>
              <a:gd name="textAreaLeft" fmla="*/ 249480 w 1428840"/>
              <a:gd name="textAreaRight" fmla="*/ 1035720 w 1428840"/>
              <a:gd name="textAreaTop" fmla="*/ 39960 h 299880"/>
              <a:gd name="textAreaBottom" fmla="*/ 259920 h 2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AutoShape 7"/>
          <p:cNvSpPr/>
          <p:nvPr/>
        </p:nvSpPr>
        <p:spPr>
          <a:xfrm flipH="1">
            <a:off x="2832120" y="5511960"/>
            <a:ext cx="1357200" cy="371160"/>
          </a:xfrm>
          <a:custGeom>
            <a:avLst/>
            <a:gdLst>
              <a:gd name="textAreaLeft" fmla="*/ 237240 w 1357200"/>
              <a:gd name="textAreaRight" fmla="*/ 983880 w 1357200"/>
              <a:gd name="textAreaTop" fmla="*/ 49680 h 371160"/>
              <a:gd name="textAreaBottom" fmla="*/ 321480 h 37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1157040" y="880560"/>
            <a:ext cx="6329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do I get this righ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771480" y="20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, identify whether or not you have problems with subject/verb agre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n’t have any problems with this, don’t worry about i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have problem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verb.  Ask who or what is doing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identify the su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them together and make sure that they match in terms of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19120" y="666720"/>
            <a:ext cx="733896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subject and verb are the skeleton of every sentence.  Make sure you fit those two important parts together correctly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95" name="Picture 13" descr="dancing skeleton"/>
          <p:cNvPicPr/>
          <p:nvPr/>
        </p:nvPicPr>
        <p:blipFill>
          <a:blip r:embed="rId1"/>
          <a:stretch/>
        </p:blipFill>
        <p:spPr>
          <a:xfrm>
            <a:off x="6181560" y="3548160"/>
            <a:ext cx="2210040" cy="2666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696" name="Group 19"/>
          <p:cNvGrpSpPr/>
          <p:nvPr/>
        </p:nvGrpSpPr>
        <p:grpSpPr>
          <a:xfrm>
            <a:off x="519120" y="3395520"/>
            <a:ext cx="2209680" cy="2667240"/>
            <a:chOff x="519120" y="3395520"/>
            <a:chExt cx="2209680" cy="2667240"/>
          </a:xfrm>
        </p:grpSpPr>
        <p:pic>
          <p:nvPicPr>
            <p:cNvPr id="1697" name="Picture 9" descr="dancing skeleton"/>
            <p:cNvPicPr/>
            <p:nvPr/>
          </p:nvPicPr>
          <p:blipFill>
            <a:blip r:embed="rId2"/>
            <a:stretch/>
          </p:blipFill>
          <p:spPr>
            <a:xfrm>
              <a:off x="519120" y="3395520"/>
              <a:ext cx="2209680" cy="266724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1698" name="Rectangle 15"/>
            <p:cNvSpPr/>
            <p:nvPr/>
          </p:nvSpPr>
          <p:spPr>
            <a:xfrm>
              <a:off x="519120" y="4614840"/>
              <a:ext cx="2209680" cy="1447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99" name="Group 25"/>
          <p:cNvGrpSpPr/>
          <p:nvPr/>
        </p:nvGrpSpPr>
        <p:grpSpPr>
          <a:xfrm>
            <a:off x="3414600" y="3747960"/>
            <a:ext cx="2108160" cy="2733480"/>
            <a:chOff x="3414600" y="3747960"/>
            <a:chExt cx="2108160" cy="2733480"/>
          </a:xfrm>
        </p:grpSpPr>
        <p:pic>
          <p:nvPicPr>
            <p:cNvPr id="1700" name="Picture 20" descr="dancing skeleton"/>
            <p:cNvPicPr/>
            <p:nvPr/>
          </p:nvPicPr>
          <p:blipFill>
            <a:blip r:embed="rId3"/>
            <a:stretch/>
          </p:blipFill>
          <p:spPr>
            <a:xfrm>
              <a:off x="3414600" y="3747960"/>
              <a:ext cx="2108160" cy="2733480"/>
            </a:xfrm>
            <a:prstGeom prst="rect">
              <a:avLst/>
            </a:prstGeom>
            <a:ln w="38160">
              <a:solidFill>
                <a:srgbClr val="ffffff"/>
              </a:solidFill>
              <a:miter/>
            </a:ln>
          </p:spPr>
        </p:pic>
        <p:sp>
          <p:nvSpPr>
            <p:cNvPr id="1701" name="Rectangle 21"/>
            <p:cNvSpPr/>
            <p:nvPr/>
          </p:nvSpPr>
          <p:spPr>
            <a:xfrm>
              <a:off x="3414600" y="3747960"/>
              <a:ext cx="2081160" cy="125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Text Box 2"/>
          <p:cNvSpPr/>
          <p:nvPr/>
        </p:nvSpPr>
        <p:spPr>
          <a:xfrm>
            <a:off x="1219320" y="30492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VERY VERB MUST AGREE WITH ITS SUBJEC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5" name="Picture 4" descr="j0078798"/>
          <p:cNvPicPr/>
          <p:nvPr/>
        </p:nvPicPr>
        <p:blipFill>
          <a:blip r:embed="rId1"/>
          <a:stretch/>
        </p:blipFill>
        <p:spPr>
          <a:xfrm>
            <a:off x="3200400" y="2209680"/>
            <a:ext cx="2616120" cy="420228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  <p:sp>
        <p:nvSpPr>
          <p:cNvPr id="1556" name="AutoShape 7"/>
          <p:cNvSpPr/>
          <p:nvPr/>
        </p:nvSpPr>
        <p:spPr>
          <a:xfrm>
            <a:off x="200160" y="2700360"/>
            <a:ext cx="1400040" cy="1114560"/>
          </a:xfrm>
          <a:prstGeom prst="pi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7" name="AutoShape 8"/>
          <p:cNvSpPr/>
          <p:nvPr/>
        </p:nvSpPr>
        <p:spPr>
          <a:xfrm>
            <a:off x="6024600" y="5253120"/>
            <a:ext cx="1285920" cy="11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8" name="Line 9"/>
          <p:cNvSpPr/>
          <p:nvPr/>
        </p:nvSpPr>
        <p:spPr>
          <a:xfrm>
            <a:off x="1128600" y="4043520"/>
            <a:ext cx="914400" cy="100008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9" name="AutoShape 10"/>
          <p:cNvSpPr/>
          <p:nvPr/>
        </p:nvSpPr>
        <p:spPr>
          <a:xfrm>
            <a:off x="7315200" y="2538360"/>
            <a:ext cx="1328760" cy="11145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Plur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Su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0" name="Line 12"/>
          <p:cNvSpPr/>
          <p:nvPr/>
        </p:nvSpPr>
        <p:spPr>
          <a:xfrm flipV="1">
            <a:off x="6886440" y="3871440"/>
            <a:ext cx="928800" cy="10861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1" name="AutoShape 13"/>
          <p:cNvSpPr/>
          <p:nvPr/>
        </p:nvSpPr>
        <p:spPr>
          <a:xfrm>
            <a:off x="1633680" y="5248440"/>
            <a:ext cx="1285560" cy="1185840"/>
          </a:xfrm>
          <a:prstGeom prst="pi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Singul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ahoma"/>
              </a:rPr>
              <a:t>Ver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upidity of English Grammar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nou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ral, w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gir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girl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make a verb plural, we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take awa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–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ular:  he talk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ural:  they 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ch the Verb Endings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ingular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/She/It walk 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 walk 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l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w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e and Maria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irls wal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7" name="Rectangle 6"/>
          <p:cNvSpPr/>
          <p:nvPr/>
        </p:nvSpPr>
        <p:spPr>
          <a:xfrm>
            <a:off x="4019400" y="37432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8" name="Rectangle 8"/>
          <p:cNvSpPr/>
          <p:nvPr/>
        </p:nvSpPr>
        <p:spPr>
          <a:xfrm>
            <a:off x="3191040" y="4229280"/>
            <a:ext cx="304560" cy="304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9" name="Rectangle 12"/>
          <p:cNvSpPr/>
          <p:nvPr/>
        </p:nvSpPr>
        <p:spPr>
          <a:xfrm>
            <a:off x="3738600" y="465768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ember the 3 irregular verb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Singular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Pl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doe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H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h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h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i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wa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10"/>
          <p:cNvGrpSpPr/>
          <p:nvPr/>
        </p:nvGrpSpPr>
        <p:grpSpPr>
          <a:xfrm>
            <a:off x="2209680" y="2722680"/>
            <a:ext cx="914400" cy="3429000"/>
            <a:chOff x="2209680" y="2722680"/>
            <a:chExt cx="914400" cy="3429000"/>
          </a:xfrm>
        </p:grpSpPr>
        <p:sp>
          <p:nvSpPr>
            <p:cNvPr id="1573" name="Line 5"/>
            <p:cNvSpPr/>
            <p:nvPr/>
          </p:nvSpPr>
          <p:spPr>
            <a:xfrm flipH="1">
              <a:off x="2666880" y="27226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Line 7"/>
            <p:cNvSpPr/>
            <p:nvPr/>
          </p:nvSpPr>
          <p:spPr>
            <a:xfrm flipH="1">
              <a:off x="2209680" y="538956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Line 8"/>
            <p:cNvSpPr/>
            <p:nvPr/>
          </p:nvSpPr>
          <p:spPr>
            <a:xfrm flipH="1">
              <a:off x="2590920" y="4094280"/>
              <a:ext cx="45720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Line 9"/>
            <p:cNvSpPr/>
            <p:nvPr/>
          </p:nvSpPr>
          <p:spPr>
            <a:xfrm flipH="1">
              <a:off x="2666880" y="5770440"/>
              <a:ext cx="45720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77" name="Group 25"/>
          <p:cNvGrpSpPr/>
          <p:nvPr/>
        </p:nvGrpSpPr>
        <p:grpSpPr>
          <a:xfrm>
            <a:off x="6934320" y="2263680"/>
            <a:ext cx="1293840" cy="3917880"/>
            <a:chOff x="6934320" y="2263680"/>
            <a:chExt cx="1293840" cy="3917880"/>
          </a:xfrm>
        </p:grpSpPr>
        <p:grpSp>
          <p:nvGrpSpPr>
            <p:cNvPr id="1578" name="Group 17"/>
            <p:cNvGrpSpPr/>
            <p:nvPr/>
          </p:nvGrpSpPr>
          <p:grpSpPr>
            <a:xfrm>
              <a:off x="7434360" y="2263680"/>
              <a:ext cx="707760" cy="690120"/>
              <a:chOff x="7434360" y="2263680"/>
              <a:chExt cx="707760" cy="690120"/>
            </a:xfrm>
          </p:grpSpPr>
          <p:sp>
            <p:nvSpPr>
              <p:cNvPr id="1579" name="Freeform 12"/>
              <p:cNvSpPr/>
              <p:nvPr/>
            </p:nvSpPr>
            <p:spPr>
              <a:xfrm>
                <a:off x="7688160" y="2531880"/>
                <a:ext cx="238320" cy="421920"/>
              </a:xfrm>
              <a:custGeom>
                <a:avLst/>
                <a:gdLst/>
                <a:ahLst/>
                <a:rect l="l" t="t" r="r" b="b"/>
                <a:pathLst>
                  <a:path w="150" h="266">
                    <a:moveTo>
                      <a:pt x="48" y="241"/>
                    </a:moveTo>
                    <a:lnTo>
                      <a:pt x="50" y="198"/>
                    </a:lnTo>
                    <a:lnTo>
                      <a:pt x="40" y="165"/>
                    </a:lnTo>
                    <a:lnTo>
                      <a:pt x="22" y="136"/>
                    </a:lnTo>
                    <a:lnTo>
                      <a:pt x="0" y="93"/>
                    </a:lnTo>
                    <a:lnTo>
                      <a:pt x="2" y="65"/>
                    </a:lnTo>
                    <a:lnTo>
                      <a:pt x="17" y="30"/>
                    </a:lnTo>
                    <a:lnTo>
                      <a:pt x="45" y="7"/>
                    </a:lnTo>
                    <a:lnTo>
                      <a:pt x="70" y="0"/>
                    </a:lnTo>
                    <a:lnTo>
                      <a:pt x="96" y="5"/>
                    </a:lnTo>
                    <a:lnTo>
                      <a:pt x="113" y="15"/>
                    </a:lnTo>
                    <a:lnTo>
                      <a:pt x="137" y="35"/>
                    </a:lnTo>
                    <a:lnTo>
                      <a:pt x="150" y="65"/>
                    </a:lnTo>
                    <a:lnTo>
                      <a:pt x="145" y="96"/>
                    </a:lnTo>
                    <a:lnTo>
                      <a:pt x="126" y="123"/>
                    </a:lnTo>
                    <a:lnTo>
                      <a:pt x="101" y="167"/>
                    </a:lnTo>
                    <a:lnTo>
                      <a:pt x="96" y="198"/>
                    </a:lnTo>
                    <a:lnTo>
                      <a:pt x="98" y="223"/>
                    </a:lnTo>
                    <a:lnTo>
                      <a:pt x="86" y="248"/>
                    </a:lnTo>
                    <a:lnTo>
                      <a:pt x="73" y="266"/>
                    </a:lnTo>
                    <a:lnTo>
                      <a:pt x="48" y="241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0" name="Freeform 13"/>
              <p:cNvSpPr/>
              <p:nvPr/>
            </p:nvSpPr>
            <p:spPr>
              <a:xfrm>
                <a:off x="7434360" y="2509560"/>
                <a:ext cx="172800" cy="80640"/>
              </a:xfrm>
              <a:custGeom>
                <a:avLst/>
                <a:gdLst/>
                <a:ahLst/>
                <a:rect l="l" t="t" r="r" b="b"/>
                <a:pathLst>
                  <a:path w="109" h="51">
                    <a:moveTo>
                      <a:pt x="109" y="51"/>
                    </a:moveTo>
                    <a:lnTo>
                      <a:pt x="18" y="35"/>
                    </a:lnTo>
                    <a:lnTo>
                      <a:pt x="0" y="17"/>
                    </a:lnTo>
                    <a:lnTo>
                      <a:pt x="7" y="2"/>
                    </a:lnTo>
                    <a:lnTo>
                      <a:pt x="28" y="0"/>
                    </a:lnTo>
                    <a:lnTo>
                      <a:pt x="109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1" name="Freeform 14"/>
              <p:cNvSpPr/>
              <p:nvPr/>
            </p:nvSpPr>
            <p:spPr>
              <a:xfrm>
                <a:off x="7607160" y="2298240"/>
                <a:ext cx="76320" cy="1332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48" y="84"/>
                    </a:moveTo>
                    <a:lnTo>
                      <a:pt x="0" y="31"/>
                    </a:lnTo>
                    <a:lnTo>
                      <a:pt x="5" y="8"/>
                    </a:lnTo>
                    <a:lnTo>
                      <a:pt x="28" y="0"/>
                    </a:lnTo>
                    <a:lnTo>
                      <a:pt x="41" y="16"/>
                    </a:lnTo>
                    <a:lnTo>
                      <a:pt x="48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2" name="Freeform 15"/>
              <p:cNvSpPr/>
              <p:nvPr/>
            </p:nvSpPr>
            <p:spPr>
              <a:xfrm>
                <a:off x="7851600" y="2263680"/>
                <a:ext cx="66960" cy="160200"/>
              </a:xfrm>
              <a:custGeom>
                <a:avLst/>
                <a:gdLst/>
                <a:ahLst/>
                <a:rect l="l" t="t" r="r" b="b"/>
                <a:pathLst>
                  <a:path w="42" h="101">
                    <a:moveTo>
                      <a:pt x="6" y="101"/>
                    </a:moveTo>
                    <a:lnTo>
                      <a:pt x="0" y="26"/>
                    </a:lnTo>
                    <a:lnTo>
                      <a:pt x="22" y="0"/>
                    </a:lnTo>
                    <a:lnTo>
                      <a:pt x="42" y="11"/>
                    </a:lnTo>
                    <a:lnTo>
                      <a:pt x="39" y="31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3" name="Freeform 16"/>
              <p:cNvSpPr/>
              <p:nvPr/>
            </p:nvSpPr>
            <p:spPr>
              <a:xfrm>
                <a:off x="7986600" y="2387160"/>
                <a:ext cx="155520" cy="99720"/>
              </a:xfrm>
              <a:custGeom>
                <a:avLst/>
                <a:gdLst/>
                <a:ahLst/>
                <a:rect l="l" t="t" r="r" b="b"/>
                <a:pathLst>
                  <a:path w="98" h="63">
                    <a:moveTo>
                      <a:pt x="0" y="63"/>
                    </a:moveTo>
                    <a:lnTo>
                      <a:pt x="73" y="0"/>
                    </a:lnTo>
                    <a:lnTo>
                      <a:pt x="98" y="12"/>
                    </a:lnTo>
                    <a:lnTo>
                      <a:pt x="96" y="33"/>
                    </a:lnTo>
                    <a:lnTo>
                      <a:pt x="83" y="4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84" name="Group 24"/>
            <p:cNvGrpSpPr/>
            <p:nvPr/>
          </p:nvGrpSpPr>
          <p:grpSpPr>
            <a:xfrm>
              <a:off x="6934320" y="2481120"/>
              <a:ext cx="1293840" cy="3700440"/>
              <a:chOff x="6934320" y="2481120"/>
              <a:chExt cx="1293840" cy="3700440"/>
            </a:xfrm>
          </p:grpSpPr>
          <p:sp>
            <p:nvSpPr>
              <p:cNvPr id="1585" name="Freeform 18"/>
              <p:cNvSpPr/>
              <p:nvPr/>
            </p:nvSpPr>
            <p:spPr>
              <a:xfrm flipH="1">
                <a:off x="7344000" y="3092040"/>
                <a:ext cx="650880" cy="644760"/>
              </a:xfrm>
              <a:custGeom>
                <a:avLst/>
                <a:gdLst/>
                <a:ahLst/>
                <a:rect l="l" t="t" r="r" b="b"/>
                <a:pathLst>
                  <a:path w="410" h="406">
                    <a:moveTo>
                      <a:pt x="268" y="117"/>
                    </a:moveTo>
                    <a:lnTo>
                      <a:pt x="217" y="41"/>
                    </a:lnTo>
                    <a:lnTo>
                      <a:pt x="166" y="0"/>
                    </a:lnTo>
                    <a:lnTo>
                      <a:pt x="106" y="0"/>
                    </a:lnTo>
                    <a:lnTo>
                      <a:pt x="40" y="26"/>
                    </a:lnTo>
                    <a:lnTo>
                      <a:pt x="10" y="71"/>
                    </a:lnTo>
                    <a:lnTo>
                      <a:pt x="0" y="132"/>
                    </a:lnTo>
                    <a:lnTo>
                      <a:pt x="10" y="213"/>
                    </a:lnTo>
                    <a:lnTo>
                      <a:pt x="50" y="304"/>
                    </a:lnTo>
                    <a:lnTo>
                      <a:pt x="121" y="365"/>
                    </a:lnTo>
                    <a:lnTo>
                      <a:pt x="176" y="395"/>
                    </a:lnTo>
                    <a:lnTo>
                      <a:pt x="232" y="406"/>
                    </a:lnTo>
                    <a:lnTo>
                      <a:pt x="278" y="390"/>
                    </a:lnTo>
                    <a:lnTo>
                      <a:pt x="303" y="365"/>
                    </a:lnTo>
                    <a:lnTo>
                      <a:pt x="319" y="304"/>
                    </a:lnTo>
                    <a:lnTo>
                      <a:pt x="314" y="233"/>
                    </a:lnTo>
                    <a:lnTo>
                      <a:pt x="298" y="173"/>
                    </a:lnTo>
                    <a:lnTo>
                      <a:pt x="399" y="117"/>
                    </a:lnTo>
                    <a:lnTo>
                      <a:pt x="410" y="92"/>
                    </a:lnTo>
                    <a:lnTo>
                      <a:pt x="399" y="81"/>
                    </a:lnTo>
                    <a:lnTo>
                      <a:pt x="288" y="147"/>
                    </a:lnTo>
                    <a:lnTo>
                      <a:pt x="268" y="117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19"/>
              <p:cNvSpPr/>
              <p:nvPr/>
            </p:nvSpPr>
            <p:spPr>
              <a:xfrm flipH="1">
                <a:off x="6950160" y="2481120"/>
                <a:ext cx="577800" cy="1439640"/>
              </a:xfrm>
              <a:custGeom>
                <a:avLst/>
                <a:gdLst/>
                <a:ahLst/>
                <a:rect l="l" t="t" r="r" b="b"/>
                <a:pathLst>
                  <a:path w="364" h="907">
                    <a:moveTo>
                      <a:pt x="101" y="765"/>
                    </a:moveTo>
                    <a:lnTo>
                      <a:pt x="35" y="816"/>
                    </a:lnTo>
                    <a:lnTo>
                      <a:pt x="15" y="832"/>
                    </a:lnTo>
                    <a:lnTo>
                      <a:pt x="0" y="867"/>
                    </a:lnTo>
                    <a:lnTo>
                      <a:pt x="20" y="902"/>
                    </a:lnTo>
                    <a:lnTo>
                      <a:pt x="40" y="907"/>
                    </a:lnTo>
                    <a:lnTo>
                      <a:pt x="101" y="887"/>
                    </a:lnTo>
                    <a:lnTo>
                      <a:pt x="192" y="816"/>
                    </a:lnTo>
                    <a:lnTo>
                      <a:pt x="273" y="730"/>
                    </a:lnTo>
                    <a:lnTo>
                      <a:pt x="359" y="633"/>
                    </a:lnTo>
                    <a:lnTo>
                      <a:pt x="364" y="593"/>
                    </a:lnTo>
                    <a:lnTo>
                      <a:pt x="364" y="482"/>
                    </a:lnTo>
                    <a:lnTo>
                      <a:pt x="339" y="310"/>
                    </a:lnTo>
                    <a:lnTo>
                      <a:pt x="354" y="209"/>
                    </a:lnTo>
                    <a:lnTo>
                      <a:pt x="364" y="168"/>
                    </a:lnTo>
                    <a:lnTo>
                      <a:pt x="349" y="147"/>
                    </a:lnTo>
                    <a:lnTo>
                      <a:pt x="313" y="127"/>
                    </a:lnTo>
                    <a:lnTo>
                      <a:pt x="288" y="112"/>
                    </a:lnTo>
                    <a:lnTo>
                      <a:pt x="303" y="21"/>
                    </a:lnTo>
                    <a:lnTo>
                      <a:pt x="293" y="0"/>
                    </a:lnTo>
                    <a:lnTo>
                      <a:pt x="273" y="6"/>
                    </a:lnTo>
                    <a:lnTo>
                      <a:pt x="263" y="122"/>
                    </a:lnTo>
                    <a:lnTo>
                      <a:pt x="253" y="152"/>
                    </a:lnTo>
                    <a:lnTo>
                      <a:pt x="248" y="173"/>
                    </a:lnTo>
                    <a:lnTo>
                      <a:pt x="207" y="157"/>
                    </a:lnTo>
                    <a:lnTo>
                      <a:pt x="177" y="157"/>
                    </a:lnTo>
                    <a:lnTo>
                      <a:pt x="177" y="178"/>
                    </a:lnTo>
                    <a:lnTo>
                      <a:pt x="197" y="194"/>
                    </a:lnTo>
                    <a:lnTo>
                      <a:pt x="233" y="194"/>
                    </a:lnTo>
                    <a:lnTo>
                      <a:pt x="258" y="214"/>
                    </a:lnTo>
                    <a:lnTo>
                      <a:pt x="278" y="249"/>
                    </a:lnTo>
                    <a:lnTo>
                      <a:pt x="298" y="305"/>
                    </a:lnTo>
                    <a:lnTo>
                      <a:pt x="313" y="416"/>
                    </a:lnTo>
                    <a:lnTo>
                      <a:pt x="313" y="517"/>
                    </a:lnTo>
                    <a:lnTo>
                      <a:pt x="303" y="598"/>
                    </a:lnTo>
                    <a:lnTo>
                      <a:pt x="283" y="633"/>
                    </a:lnTo>
                    <a:lnTo>
                      <a:pt x="212" y="684"/>
                    </a:lnTo>
                    <a:lnTo>
                      <a:pt x="136" y="730"/>
                    </a:lnTo>
                    <a:lnTo>
                      <a:pt x="101" y="76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7" name="Freeform 20"/>
              <p:cNvSpPr/>
              <p:nvPr/>
            </p:nvSpPr>
            <p:spPr>
              <a:xfrm flipH="1">
                <a:off x="7706160" y="3809880"/>
                <a:ext cx="522000" cy="866520"/>
              </a:xfrm>
              <a:custGeom>
                <a:avLst/>
                <a:gdLst/>
                <a:ahLst/>
                <a:rect l="l" t="t" r="r" b="b"/>
                <a:pathLst>
                  <a:path w="329" h="546">
                    <a:moveTo>
                      <a:pt x="329" y="15"/>
                    </a:moveTo>
                    <a:lnTo>
                      <a:pt x="293" y="0"/>
                    </a:lnTo>
                    <a:lnTo>
                      <a:pt x="217" y="5"/>
                    </a:lnTo>
                    <a:lnTo>
                      <a:pt x="151" y="56"/>
                    </a:lnTo>
                    <a:lnTo>
                      <a:pt x="55" y="162"/>
                    </a:lnTo>
                    <a:lnTo>
                      <a:pt x="5" y="248"/>
                    </a:lnTo>
                    <a:lnTo>
                      <a:pt x="0" y="278"/>
                    </a:lnTo>
                    <a:lnTo>
                      <a:pt x="25" y="334"/>
                    </a:lnTo>
                    <a:lnTo>
                      <a:pt x="80" y="359"/>
                    </a:lnTo>
                    <a:lnTo>
                      <a:pt x="151" y="389"/>
                    </a:lnTo>
                    <a:lnTo>
                      <a:pt x="207" y="404"/>
                    </a:lnTo>
                    <a:lnTo>
                      <a:pt x="232" y="430"/>
                    </a:lnTo>
                    <a:lnTo>
                      <a:pt x="217" y="465"/>
                    </a:lnTo>
                    <a:lnTo>
                      <a:pt x="177" y="506"/>
                    </a:lnTo>
                    <a:lnTo>
                      <a:pt x="126" y="511"/>
                    </a:lnTo>
                    <a:lnTo>
                      <a:pt x="91" y="495"/>
                    </a:lnTo>
                    <a:lnTo>
                      <a:pt x="70" y="511"/>
                    </a:lnTo>
                    <a:lnTo>
                      <a:pt x="75" y="531"/>
                    </a:lnTo>
                    <a:lnTo>
                      <a:pt x="116" y="546"/>
                    </a:lnTo>
                    <a:lnTo>
                      <a:pt x="177" y="546"/>
                    </a:lnTo>
                    <a:lnTo>
                      <a:pt x="232" y="531"/>
                    </a:lnTo>
                    <a:lnTo>
                      <a:pt x="263" y="511"/>
                    </a:lnTo>
                    <a:lnTo>
                      <a:pt x="283" y="475"/>
                    </a:lnTo>
                    <a:lnTo>
                      <a:pt x="293" y="435"/>
                    </a:lnTo>
                    <a:lnTo>
                      <a:pt x="268" y="399"/>
                    </a:lnTo>
                    <a:lnTo>
                      <a:pt x="207" y="374"/>
                    </a:lnTo>
                    <a:lnTo>
                      <a:pt x="136" y="354"/>
                    </a:lnTo>
                    <a:lnTo>
                      <a:pt x="75" y="319"/>
                    </a:lnTo>
                    <a:lnTo>
                      <a:pt x="60" y="288"/>
                    </a:lnTo>
                    <a:lnTo>
                      <a:pt x="70" y="233"/>
                    </a:lnTo>
                    <a:lnTo>
                      <a:pt x="116" y="162"/>
                    </a:lnTo>
                    <a:lnTo>
                      <a:pt x="172" y="121"/>
                    </a:lnTo>
                    <a:lnTo>
                      <a:pt x="258" y="91"/>
                    </a:lnTo>
                    <a:lnTo>
                      <a:pt x="329" y="76"/>
                    </a:lnTo>
                    <a:lnTo>
                      <a:pt x="329" y="35"/>
                    </a:lnTo>
                    <a:lnTo>
                      <a:pt x="329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8" name="Freeform 21"/>
              <p:cNvSpPr/>
              <p:nvPr/>
            </p:nvSpPr>
            <p:spPr>
              <a:xfrm flipH="1">
                <a:off x="7311960" y="3769920"/>
                <a:ext cx="490680" cy="1068480"/>
              </a:xfrm>
              <a:custGeom>
                <a:avLst/>
                <a:gdLst/>
                <a:ahLst/>
                <a:rect l="l" t="t" r="r" b="b"/>
                <a:pathLst>
                  <a:path w="309" h="673">
                    <a:moveTo>
                      <a:pt x="269" y="212"/>
                    </a:moveTo>
                    <a:lnTo>
                      <a:pt x="238" y="86"/>
                    </a:lnTo>
                    <a:lnTo>
                      <a:pt x="203" y="25"/>
                    </a:lnTo>
                    <a:lnTo>
                      <a:pt x="126" y="0"/>
                    </a:lnTo>
                    <a:lnTo>
                      <a:pt x="50" y="10"/>
                    </a:lnTo>
                    <a:lnTo>
                      <a:pt x="15" y="76"/>
                    </a:lnTo>
                    <a:lnTo>
                      <a:pt x="20" y="157"/>
                    </a:lnTo>
                    <a:lnTo>
                      <a:pt x="40" y="288"/>
                    </a:lnTo>
                    <a:lnTo>
                      <a:pt x="40" y="404"/>
                    </a:lnTo>
                    <a:lnTo>
                      <a:pt x="15" y="505"/>
                    </a:lnTo>
                    <a:lnTo>
                      <a:pt x="0" y="561"/>
                    </a:lnTo>
                    <a:lnTo>
                      <a:pt x="10" y="612"/>
                    </a:lnTo>
                    <a:lnTo>
                      <a:pt x="45" y="638"/>
                    </a:lnTo>
                    <a:lnTo>
                      <a:pt x="91" y="663"/>
                    </a:lnTo>
                    <a:lnTo>
                      <a:pt x="136" y="673"/>
                    </a:lnTo>
                    <a:lnTo>
                      <a:pt x="193" y="673"/>
                    </a:lnTo>
                    <a:lnTo>
                      <a:pt x="259" y="622"/>
                    </a:lnTo>
                    <a:lnTo>
                      <a:pt x="309" y="515"/>
                    </a:lnTo>
                    <a:lnTo>
                      <a:pt x="304" y="419"/>
                    </a:lnTo>
                    <a:lnTo>
                      <a:pt x="274" y="308"/>
                    </a:lnTo>
                    <a:lnTo>
                      <a:pt x="269" y="21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9" name="Freeform 22"/>
              <p:cNvSpPr/>
              <p:nvPr/>
            </p:nvSpPr>
            <p:spPr>
              <a:xfrm flipH="1">
                <a:off x="7575840" y="4636800"/>
                <a:ext cx="372960" cy="1544760"/>
              </a:xfrm>
              <a:custGeom>
                <a:avLst/>
                <a:gdLst/>
                <a:ahLst/>
                <a:rect l="l" t="t" r="r" b="b"/>
                <a:pathLst>
                  <a:path w="235" h="973">
                    <a:moveTo>
                      <a:pt x="223" y="15"/>
                    </a:moveTo>
                    <a:lnTo>
                      <a:pt x="163" y="0"/>
                    </a:lnTo>
                    <a:lnTo>
                      <a:pt x="127" y="15"/>
                    </a:lnTo>
                    <a:lnTo>
                      <a:pt x="112" y="66"/>
                    </a:lnTo>
                    <a:lnTo>
                      <a:pt x="127" y="344"/>
                    </a:lnTo>
                    <a:lnTo>
                      <a:pt x="127" y="410"/>
                    </a:lnTo>
                    <a:lnTo>
                      <a:pt x="107" y="532"/>
                    </a:lnTo>
                    <a:lnTo>
                      <a:pt x="102" y="674"/>
                    </a:lnTo>
                    <a:lnTo>
                      <a:pt x="112" y="745"/>
                    </a:lnTo>
                    <a:lnTo>
                      <a:pt x="102" y="785"/>
                    </a:lnTo>
                    <a:lnTo>
                      <a:pt x="31" y="846"/>
                    </a:lnTo>
                    <a:lnTo>
                      <a:pt x="0" y="922"/>
                    </a:lnTo>
                    <a:lnTo>
                      <a:pt x="6" y="947"/>
                    </a:lnTo>
                    <a:lnTo>
                      <a:pt x="61" y="973"/>
                    </a:lnTo>
                    <a:lnTo>
                      <a:pt x="76" y="962"/>
                    </a:lnTo>
                    <a:lnTo>
                      <a:pt x="82" y="917"/>
                    </a:lnTo>
                    <a:lnTo>
                      <a:pt x="97" y="851"/>
                    </a:lnTo>
                    <a:lnTo>
                      <a:pt x="122" y="821"/>
                    </a:lnTo>
                    <a:lnTo>
                      <a:pt x="152" y="801"/>
                    </a:lnTo>
                    <a:lnTo>
                      <a:pt x="178" y="775"/>
                    </a:lnTo>
                    <a:lnTo>
                      <a:pt x="183" y="755"/>
                    </a:lnTo>
                    <a:lnTo>
                      <a:pt x="168" y="730"/>
                    </a:lnTo>
                    <a:lnTo>
                      <a:pt x="152" y="715"/>
                    </a:lnTo>
                    <a:lnTo>
                      <a:pt x="142" y="653"/>
                    </a:lnTo>
                    <a:lnTo>
                      <a:pt x="152" y="526"/>
                    </a:lnTo>
                    <a:lnTo>
                      <a:pt x="188" y="380"/>
                    </a:lnTo>
                    <a:lnTo>
                      <a:pt x="223" y="263"/>
                    </a:lnTo>
                    <a:lnTo>
                      <a:pt x="235" y="122"/>
                    </a:lnTo>
                    <a:lnTo>
                      <a:pt x="223" y="15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0" name="Freeform 23"/>
              <p:cNvSpPr/>
              <p:nvPr/>
            </p:nvSpPr>
            <p:spPr>
              <a:xfrm flipH="1">
                <a:off x="6934320" y="4636800"/>
                <a:ext cx="609840" cy="1303200"/>
              </a:xfrm>
              <a:custGeom>
                <a:avLst/>
                <a:gdLst/>
                <a:ahLst/>
                <a:rect l="l" t="t" r="r" b="b"/>
                <a:pathLst>
                  <a:path w="384" h="821">
                    <a:moveTo>
                      <a:pt x="126" y="122"/>
                    </a:moveTo>
                    <a:lnTo>
                      <a:pt x="116" y="40"/>
                    </a:lnTo>
                    <a:lnTo>
                      <a:pt x="71" y="0"/>
                    </a:lnTo>
                    <a:lnTo>
                      <a:pt x="5" y="5"/>
                    </a:lnTo>
                    <a:lnTo>
                      <a:pt x="0" y="40"/>
                    </a:lnTo>
                    <a:lnTo>
                      <a:pt x="5" y="117"/>
                    </a:lnTo>
                    <a:lnTo>
                      <a:pt x="40" y="233"/>
                    </a:lnTo>
                    <a:lnTo>
                      <a:pt x="66" y="319"/>
                    </a:lnTo>
                    <a:lnTo>
                      <a:pt x="96" y="435"/>
                    </a:lnTo>
                    <a:lnTo>
                      <a:pt x="106" y="536"/>
                    </a:lnTo>
                    <a:lnTo>
                      <a:pt x="106" y="617"/>
                    </a:lnTo>
                    <a:lnTo>
                      <a:pt x="91" y="679"/>
                    </a:lnTo>
                    <a:lnTo>
                      <a:pt x="76" y="699"/>
                    </a:lnTo>
                    <a:lnTo>
                      <a:pt x="76" y="719"/>
                    </a:lnTo>
                    <a:lnTo>
                      <a:pt x="96" y="750"/>
                    </a:lnTo>
                    <a:lnTo>
                      <a:pt x="131" y="760"/>
                    </a:lnTo>
                    <a:lnTo>
                      <a:pt x="187" y="760"/>
                    </a:lnTo>
                    <a:lnTo>
                      <a:pt x="288" y="785"/>
                    </a:lnTo>
                    <a:lnTo>
                      <a:pt x="318" y="821"/>
                    </a:lnTo>
                    <a:lnTo>
                      <a:pt x="364" y="800"/>
                    </a:lnTo>
                    <a:lnTo>
                      <a:pt x="384" y="750"/>
                    </a:lnTo>
                    <a:lnTo>
                      <a:pt x="364" y="730"/>
                    </a:lnTo>
                    <a:lnTo>
                      <a:pt x="278" y="719"/>
                    </a:lnTo>
                    <a:lnTo>
                      <a:pt x="182" y="719"/>
                    </a:lnTo>
                    <a:lnTo>
                      <a:pt x="141" y="714"/>
                    </a:lnTo>
                    <a:lnTo>
                      <a:pt x="131" y="684"/>
                    </a:lnTo>
                    <a:lnTo>
                      <a:pt x="141" y="627"/>
                    </a:lnTo>
                    <a:lnTo>
                      <a:pt x="147" y="531"/>
                    </a:lnTo>
                    <a:lnTo>
                      <a:pt x="136" y="425"/>
                    </a:lnTo>
                    <a:lnTo>
                      <a:pt x="121" y="284"/>
                    </a:lnTo>
                    <a:lnTo>
                      <a:pt x="126" y="162"/>
                    </a:lnTo>
                    <a:lnTo>
                      <a:pt x="126" y="122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ip for Subject/verb Agree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2" name="Text Box 3"/>
          <p:cNvSpPr/>
          <p:nvPr/>
        </p:nvSpPr>
        <p:spPr>
          <a:xfrm>
            <a:off x="83808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n’t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ill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3" name="Text Box 4"/>
          <p:cNvSpPr/>
          <p:nvPr/>
        </p:nvSpPr>
        <p:spPr>
          <a:xfrm>
            <a:off x="838080" y="4267080"/>
            <a:ext cx="6019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subject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do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nd in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–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the verb won’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Group 18"/>
          <p:cNvGrpSpPr/>
          <p:nvPr/>
        </p:nvGrpSpPr>
        <p:grpSpPr>
          <a:xfrm>
            <a:off x="3581280" y="3809880"/>
            <a:ext cx="1917720" cy="2105280"/>
            <a:chOff x="3581280" y="3809880"/>
            <a:chExt cx="1917720" cy="2105280"/>
          </a:xfrm>
        </p:grpSpPr>
        <p:grpSp>
          <p:nvGrpSpPr>
            <p:cNvPr id="1595" name="Group 14"/>
            <p:cNvGrpSpPr/>
            <p:nvPr/>
          </p:nvGrpSpPr>
          <p:grpSpPr>
            <a:xfrm>
              <a:off x="3581280" y="3809880"/>
              <a:ext cx="1917720" cy="2105280"/>
              <a:chOff x="3581280" y="3809880"/>
              <a:chExt cx="1917720" cy="2105280"/>
            </a:xfrm>
          </p:grpSpPr>
          <p:sp>
            <p:nvSpPr>
              <p:cNvPr id="1596" name="Freeform 8"/>
              <p:cNvSpPr/>
              <p:nvPr/>
            </p:nvSpPr>
            <p:spPr>
              <a:xfrm>
                <a:off x="4448160" y="4600440"/>
                <a:ext cx="353880" cy="571680"/>
              </a:xfrm>
              <a:custGeom>
                <a:avLst/>
                <a:gdLst/>
                <a:ahLst/>
                <a:rect l="l" t="t" r="r" b="b"/>
                <a:pathLst>
                  <a:path w="223" h="360">
                    <a:moveTo>
                      <a:pt x="84" y="18"/>
                    </a:moveTo>
                    <a:lnTo>
                      <a:pt x="101" y="4"/>
                    </a:lnTo>
                    <a:lnTo>
                      <a:pt x="120" y="0"/>
                    </a:lnTo>
                    <a:lnTo>
                      <a:pt x="137" y="2"/>
                    </a:lnTo>
                    <a:lnTo>
                      <a:pt x="141" y="2"/>
                    </a:lnTo>
                    <a:lnTo>
                      <a:pt x="160" y="12"/>
                    </a:lnTo>
                    <a:lnTo>
                      <a:pt x="180" y="26"/>
                    </a:lnTo>
                    <a:lnTo>
                      <a:pt x="196" y="45"/>
                    </a:lnTo>
                    <a:lnTo>
                      <a:pt x="209" y="71"/>
                    </a:lnTo>
                    <a:lnTo>
                      <a:pt x="216" y="99"/>
                    </a:lnTo>
                    <a:lnTo>
                      <a:pt x="221" y="129"/>
                    </a:lnTo>
                    <a:lnTo>
                      <a:pt x="223" y="159"/>
                    </a:lnTo>
                    <a:lnTo>
                      <a:pt x="222" y="192"/>
                    </a:lnTo>
                    <a:lnTo>
                      <a:pt x="220" y="224"/>
                    </a:lnTo>
                    <a:lnTo>
                      <a:pt x="211" y="254"/>
                    </a:lnTo>
                    <a:lnTo>
                      <a:pt x="199" y="278"/>
                    </a:lnTo>
                    <a:lnTo>
                      <a:pt x="184" y="301"/>
                    </a:lnTo>
                    <a:lnTo>
                      <a:pt x="166" y="323"/>
                    </a:lnTo>
                    <a:lnTo>
                      <a:pt x="144" y="347"/>
                    </a:lnTo>
                    <a:lnTo>
                      <a:pt x="128" y="354"/>
                    </a:lnTo>
                    <a:lnTo>
                      <a:pt x="105" y="360"/>
                    </a:lnTo>
                    <a:lnTo>
                      <a:pt x="86" y="360"/>
                    </a:lnTo>
                    <a:lnTo>
                      <a:pt x="59" y="355"/>
                    </a:lnTo>
                    <a:lnTo>
                      <a:pt x="45" y="344"/>
                    </a:lnTo>
                    <a:lnTo>
                      <a:pt x="30" y="331"/>
                    </a:lnTo>
                    <a:lnTo>
                      <a:pt x="16" y="313"/>
                    </a:lnTo>
                    <a:lnTo>
                      <a:pt x="12" y="312"/>
                    </a:lnTo>
                    <a:lnTo>
                      <a:pt x="4" y="294"/>
                    </a:lnTo>
                    <a:lnTo>
                      <a:pt x="0" y="275"/>
                    </a:lnTo>
                    <a:lnTo>
                      <a:pt x="6" y="253"/>
                    </a:lnTo>
                    <a:lnTo>
                      <a:pt x="18" y="234"/>
                    </a:lnTo>
                    <a:lnTo>
                      <a:pt x="33" y="220"/>
                    </a:lnTo>
                    <a:lnTo>
                      <a:pt x="52" y="210"/>
                    </a:lnTo>
                    <a:lnTo>
                      <a:pt x="71" y="199"/>
                    </a:lnTo>
                    <a:lnTo>
                      <a:pt x="77" y="189"/>
                    </a:lnTo>
                    <a:lnTo>
                      <a:pt x="82" y="177"/>
                    </a:lnTo>
                    <a:lnTo>
                      <a:pt x="85" y="158"/>
                    </a:lnTo>
                    <a:lnTo>
                      <a:pt x="82" y="132"/>
                    </a:lnTo>
                    <a:lnTo>
                      <a:pt x="77" y="109"/>
                    </a:lnTo>
                    <a:lnTo>
                      <a:pt x="71" y="81"/>
                    </a:lnTo>
                    <a:lnTo>
                      <a:pt x="69" y="59"/>
                    </a:lnTo>
                    <a:lnTo>
                      <a:pt x="73" y="36"/>
                    </a:lnTo>
                    <a:lnTo>
                      <a:pt x="84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Freeform 9"/>
              <p:cNvSpPr/>
              <p:nvPr/>
            </p:nvSpPr>
            <p:spPr>
              <a:xfrm>
                <a:off x="4635360" y="4570560"/>
                <a:ext cx="863640" cy="136440"/>
              </a:xfrm>
              <a:custGeom>
                <a:avLst/>
                <a:gdLst/>
                <a:ahLst/>
                <a:rect l="l" t="t" r="r" b="b"/>
                <a:pathLst>
                  <a:path w="544" h="86">
                    <a:moveTo>
                      <a:pt x="19" y="30"/>
                    </a:moveTo>
                    <a:lnTo>
                      <a:pt x="8" y="32"/>
                    </a:lnTo>
                    <a:lnTo>
                      <a:pt x="4" y="34"/>
                    </a:lnTo>
                    <a:lnTo>
                      <a:pt x="0" y="41"/>
                    </a:lnTo>
                    <a:lnTo>
                      <a:pt x="2" y="55"/>
                    </a:lnTo>
                    <a:lnTo>
                      <a:pt x="14" y="67"/>
                    </a:lnTo>
                    <a:lnTo>
                      <a:pt x="36" y="74"/>
                    </a:lnTo>
                    <a:lnTo>
                      <a:pt x="65" y="79"/>
                    </a:lnTo>
                    <a:lnTo>
                      <a:pt x="128" y="86"/>
                    </a:lnTo>
                    <a:lnTo>
                      <a:pt x="192" y="86"/>
                    </a:lnTo>
                    <a:lnTo>
                      <a:pt x="247" y="86"/>
                    </a:lnTo>
                    <a:lnTo>
                      <a:pt x="300" y="79"/>
                    </a:lnTo>
                    <a:lnTo>
                      <a:pt x="339" y="70"/>
                    </a:lnTo>
                    <a:lnTo>
                      <a:pt x="380" y="62"/>
                    </a:lnTo>
                    <a:lnTo>
                      <a:pt x="421" y="50"/>
                    </a:lnTo>
                    <a:lnTo>
                      <a:pt x="446" y="43"/>
                    </a:lnTo>
                    <a:lnTo>
                      <a:pt x="449" y="43"/>
                    </a:lnTo>
                    <a:lnTo>
                      <a:pt x="453" y="43"/>
                    </a:lnTo>
                    <a:lnTo>
                      <a:pt x="457" y="44"/>
                    </a:lnTo>
                    <a:lnTo>
                      <a:pt x="460" y="44"/>
                    </a:lnTo>
                    <a:lnTo>
                      <a:pt x="464" y="44"/>
                    </a:lnTo>
                    <a:lnTo>
                      <a:pt x="468" y="46"/>
                    </a:lnTo>
                    <a:lnTo>
                      <a:pt x="471" y="48"/>
                    </a:lnTo>
                    <a:lnTo>
                      <a:pt x="475" y="49"/>
                    </a:lnTo>
                    <a:lnTo>
                      <a:pt x="477" y="52"/>
                    </a:lnTo>
                    <a:lnTo>
                      <a:pt x="479" y="56"/>
                    </a:lnTo>
                    <a:lnTo>
                      <a:pt x="483" y="57"/>
                    </a:lnTo>
                    <a:lnTo>
                      <a:pt x="487" y="60"/>
                    </a:lnTo>
                    <a:lnTo>
                      <a:pt x="490" y="63"/>
                    </a:lnTo>
                    <a:lnTo>
                      <a:pt x="494" y="65"/>
                    </a:lnTo>
                    <a:lnTo>
                      <a:pt x="497" y="65"/>
                    </a:lnTo>
                    <a:lnTo>
                      <a:pt x="501" y="69"/>
                    </a:lnTo>
                    <a:lnTo>
                      <a:pt x="504" y="70"/>
                    </a:lnTo>
                    <a:lnTo>
                      <a:pt x="508" y="70"/>
                    </a:lnTo>
                    <a:lnTo>
                      <a:pt x="513" y="72"/>
                    </a:lnTo>
                    <a:lnTo>
                      <a:pt x="517" y="72"/>
                    </a:lnTo>
                    <a:lnTo>
                      <a:pt x="521" y="72"/>
                    </a:lnTo>
                    <a:lnTo>
                      <a:pt x="525" y="72"/>
                    </a:lnTo>
                    <a:lnTo>
                      <a:pt x="529" y="72"/>
                    </a:lnTo>
                    <a:lnTo>
                      <a:pt x="533" y="70"/>
                    </a:lnTo>
                    <a:lnTo>
                      <a:pt x="536" y="67"/>
                    </a:lnTo>
                    <a:lnTo>
                      <a:pt x="541" y="67"/>
                    </a:lnTo>
                    <a:lnTo>
                      <a:pt x="544" y="63"/>
                    </a:lnTo>
                    <a:lnTo>
                      <a:pt x="544" y="60"/>
                    </a:lnTo>
                    <a:lnTo>
                      <a:pt x="544" y="56"/>
                    </a:lnTo>
                    <a:lnTo>
                      <a:pt x="544" y="52"/>
                    </a:lnTo>
                    <a:lnTo>
                      <a:pt x="540" y="50"/>
                    </a:lnTo>
                    <a:lnTo>
                      <a:pt x="536" y="46"/>
                    </a:lnTo>
                    <a:lnTo>
                      <a:pt x="533" y="45"/>
                    </a:lnTo>
                    <a:lnTo>
                      <a:pt x="529" y="44"/>
                    </a:lnTo>
                    <a:lnTo>
                      <a:pt x="525" y="43"/>
                    </a:lnTo>
                    <a:lnTo>
                      <a:pt x="522" y="41"/>
                    </a:lnTo>
                    <a:lnTo>
                      <a:pt x="518" y="41"/>
                    </a:lnTo>
                    <a:lnTo>
                      <a:pt x="515" y="41"/>
                    </a:lnTo>
                    <a:lnTo>
                      <a:pt x="510" y="41"/>
                    </a:lnTo>
                    <a:lnTo>
                      <a:pt x="506" y="41"/>
                    </a:lnTo>
                    <a:lnTo>
                      <a:pt x="503" y="41"/>
                    </a:lnTo>
                    <a:lnTo>
                      <a:pt x="499" y="41"/>
                    </a:lnTo>
                    <a:lnTo>
                      <a:pt x="496" y="39"/>
                    </a:lnTo>
                    <a:lnTo>
                      <a:pt x="492" y="38"/>
                    </a:lnTo>
                    <a:lnTo>
                      <a:pt x="489" y="37"/>
                    </a:lnTo>
                    <a:lnTo>
                      <a:pt x="484" y="37"/>
                    </a:lnTo>
                    <a:lnTo>
                      <a:pt x="480" y="34"/>
                    </a:lnTo>
                    <a:lnTo>
                      <a:pt x="477" y="34"/>
                    </a:lnTo>
                    <a:lnTo>
                      <a:pt x="473" y="34"/>
                    </a:lnTo>
                    <a:lnTo>
                      <a:pt x="470" y="31"/>
                    </a:lnTo>
                    <a:lnTo>
                      <a:pt x="468" y="27"/>
                    </a:lnTo>
                    <a:lnTo>
                      <a:pt x="465" y="24"/>
                    </a:lnTo>
                    <a:lnTo>
                      <a:pt x="465" y="20"/>
                    </a:lnTo>
                    <a:lnTo>
                      <a:pt x="465" y="17"/>
                    </a:lnTo>
                    <a:lnTo>
                      <a:pt x="468" y="13"/>
                    </a:lnTo>
                    <a:lnTo>
                      <a:pt x="468" y="10"/>
                    </a:lnTo>
                    <a:lnTo>
                      <a:pt x="468" y="6"/>
                    </a:lnTo>
                    <a:lnTo>
                      <a:pt x="466" y="3"/>
                    </a:lnTo>
                    <a:lnTo>
                      <a:pt x="463" y="1"/>
                    </a:lnTo>
                    <a:lnTo>
                      <a:pt x="459" y="0"/>
                    </a:lnTo>
                    <a:lnTo>
                      <a:pt x="456" y="0"/>
                    </a:lnTo>
                    <a:lnTo>
                      <a:pt x="452" y="1"/>
                    </a:lnTo>
                    <a:lnTo>
                      <a:pt x="449" y="3"/>
                    </a:lnTo>
                    <a:lnTo>
                      <a:pt x="445" y="5"/>
                    </a:lnTo>
                    <a:lnTo>
                      <a:pt x="444" y="8"/>
                    </a:lnTo>
                    <a:lnTo>
                      <a:pt x="442" y="12"/>
                    </a:lnTo>
                    <a:lnTo>
                      <a:pt x="441" y="15"/>
                    </a:lnTo>
                    <a:lnTo>
                      <a:pt x="439" y="19"/>
                    </a:lnTo>
                    <a:lnTo>
                      <a:pt x="437" y="22"/>
                    </a:lnTo>
                    <a:lnTo>
                      <a:pt x="434" y="26"/>
                    </a:lnTo>
                    <a:lnTo>
                      <a:pt x="392" y="39"/>
                    </a:lnTo>
                    <a:lnTo>
                      <a:pt x="316" y="53"/>
                    </a:lnTo>
                    <a:lnTo>
                      <a:pt x="247" y="57"/>
                    </a:lnTo>
                    <a:lnTo>
                      <a:pt x="179" y="51"/>
                    </a:lnTo>
                    <a:lnTo>
                      <a:pt x="119" y="44"/>
                    </a:lnTo>
                    <a:lnTo>
                      <a:pt x="66" y="36"/>
                    </a:lnTo>
                    <a:lnTo>
                      <a:pt x="29" y="29"/>
                    </a:lnTo>
                    <a:lnTo>
                      <a:pt x="19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8" name="Freeform 10"/>
              <p:cNvSpPr/>
              <p:nvPr/>
            </p:nvSpPr>
            <p:spPr>
              <a:xfrm>
                <a:off x="4421160" y="3809880"/>
                <a:ext cx="372960" cy="900360"/>
              </a:xfrm>
              <a:custGeom>
                <a:avLst/>
                <a:gdLst/>
                <a:ahLst/>
                <a:rect l="l" t="t" r="r" b="b"/>
                <a:pathLst>
                  <a:path w="235" h="567">
                    <a:moveTo>
                      <a:pt x="26" y="343"/>
                    </a:moveTo>
                    <a:lnTo>
                      <a:pt x="33" y="379"/>
                    </a:lnTo>
                    <a:lnTo>
                      <a:pt x="45" y="406"/>
                    </a:lnTo>
                    <a:lnTo>
                      <a:pt x="62" y="434"/>
                    </a:lnTo>
                    <a:lnTo>
                      <a:pt x="86" y="465"/>
                    </a:lnTo>
                    <a:lnTo>
                      <a:pt x="114" y="490"/>
                    </a:lnTo>
                    <a:lnTo>
                      <a:pt x="142" y="509"/>
                    </a:lnTo>
                    <a:lnTo>
                      <a:pt x="161" y="523"/>
                    </a:lnTo>
                    <a:lnTo>
                      <a:pt x="168" y="538"/>
                    </a:lnTo>
                    <a:lnTo>
                      <a:pt x="165" y="554"/>
                    </a:lnTo>
                    <a:lnTo>
                      <a:pt x="152" y="567"/>
                    </a:lnTo>
                    <a:lnTo>
                      <a:pt x="133" y="564"/>
                    </a:lnTo>
                    <a:lnTo>
                      <a:pt x="111" y="548"/>
                    </a:lnTo>
                    <a:lnTo>
                      <a:pt x="83" y="516"/>
                    </a:lnTo>
                    <a:lnTo>
                      <a:pt x="50" y="466"/>
                    </a:lnTo>
                    <a:lnTo>
                      <a:pt x="24" y="425"/>
                    </a:lnTo>
                    <a:lnTo>
                      <a:pt x="10" y="391"/>
                    </a:lnTo>
                    <a:lnTo>
                      <a:pt x="3" y="351"/>
                    </a:lnTo>
                    <a:lnTo>
                      <a:pt x="0" y="308"/>
                    </a:lnTo>
                    <a:lnTo>
                      <a:pt x="2" y="263"/>
                    </a:lnTo>
                    <a:lnTo>
                      <a:pt x="10" y="224"/>
                    </a:lnTo>
                    <a:lnTo>
                      <a:pt x="20" y="196"/>
                    </a:lnTo>
                    <a:lnTo>
                      <a:pt x="38" y="168"/>
                    </a:lnTo>
                    <a:lnTo>
                      <a:pt x="66" y="144"/>
                    </a:lnTo>
                    <a:lnTo>
                      <a:pt x="104" y="111"/>
                    </a:lnTo>
                    <a:lnTo>
                      <a:pt x="140" y="85"/>
                    </a:lnTo>
                    <a:lnTo>
                      <a:pt x="161" y="64"/>
                    </a:lnTo>
                    <a:lnTo>
                      <a:pt x="165" y="62"/>
                    </a:lnTo>
                    <a:lnTo>
                      <a:pt x="166" y="58"/>
                    </a:lnTo>
                    <a:lnTo>
                      <a:pt x="171" y="54"/>
                    </a:lnTo>
                    <a:lnTo>
                      <a:pt x="173" y="50"/>
                    </a:lnTo>
                    <a:lnTo>
                      <a:pt x="173" y="45"/>
                    </a:lnTo>
                    <a:lnTo>
                      <a:pt x="175" y="40"/>
                    </a:lnTo>
                    <a:lnTo>
                      <a:pt x="176" y="35"/>
                    </a:lnTo>
                    <a:lnTo>
                      <a:pt x="177" y="31"/>
                    </a:lnTo>
                    <a:lnTo>
                      <a:pt x="178" y="28"/>
                    </a:lnTo>
                    <a:lnTo>
                      <a:pt x="180" y="23"/>
                    </a:lnTo>
                    <a:lnTo>
                      <a:pt x="180" y="19"/>
                    </a:lnTo>
                    <a:lnTo>
                      <a:pt x="184" y="16"/>
                    </a:lnTo>
                    <a:lnTo>
                      <a:pt x="187" y="12"/>
                    </a:lnTo>
                    <a:lnTo>
                      <a:pt x="190" y="9"/>
                    </a:lnTo>
                    <a:lnTo>
                      <a:pt x="194" y="5"/>
                    </a:lnTo>
                    <a:lnTo>
                      <a:pt x="197" y="4"/>
                    </a:lnTo>
                    <a:lnTo>
                      <a:pt x="201" y="1"/>
                    </a:lnTo>
                    <a:lnTo>
                      <a:pt x="204" y="1"/>
                    </a:lnTo>
                    <a:lnTo>
                      <a:pt x="209" y="1"/>
                    </a:lnTo>
                    <a:lnTo>
                      <a:pt x="214" y="1"/>
                    </a:lnTo>
                    <a:lnTo>
                      <a:pt x="218" y="0"/>
                    </a:lnTo>
                    <a:lnTo>
                      <a:pt x="223" y="0"/>
                    </a:lnTo>
                    <a:lnTo>
                      <a:pt x="227" y="0"/>
                    </a:lnTo>
                    <a:lnTo>
                      <a:pt x="230" y="1"/>
                    </a:lnTo>
                    <a:lnTo>
                      <a:pt x="234" y="1"/>
                    </a:lnTo>
                    <a:lnTo>
                      <a:pt x="235" y="5"/>
                    </a:lnTo>
                    <a:lnTo>
                      <a:pt x="235" y="9"/>
                    </a:lnTo>
                    <a:lnTo>
                      <a:pt x="235" y="12"/>
                    </a:lnTo>
                    <a:lnTo>
                      <a:pt x="233" y="16"/>
                    </a:lnTo>
                    <a:lnTo>
                      <a:pt x="227" y="19"/>
                    </a:lnTo>
                    <a:lnTo>
                      <a:pt x="223" y="20"/>
                    </a:lnTo>
                    <a:lnTo>
                      <a:pt x="220" y="21"/>
                    </a:lnTo>
                    <a:lnTo>
                      <a:pt x="216" y="23"/>
                    </a:lnTo>
                    <a:lnTo>
                      <a:pt x="213" y="23"/>
                    </a:lnTo>
                    <a:lnTo>
                      <a:pt x="209" y="24"/>
                    </a:lnTo>
                    <a:lnTo>
                      <a:pt x="206" y="28"/>
                    </a:lnTo>
                    <a:lnTo>
                      <a:pt x="202" y="30"/>
                    </a:lnTo>
                    <a:lnTo>
                      <a:pt x="199" y="33"/>
                    </a:lnTo>
                    <a:lnTo>
                      <a:pt x="197" y="38"/>
                    </a:lnTo>
                    <a:lnTo>
                      <a:pt x="196" y="42"/>
                    </a:lnTo>
                    <a:lnTo>
                      <a:pt x="195" y="45"/>
                    </a:lnTo>
                    <a:lnTo>
                      <a:pt x="195" y="49"/>
                    </a:lnTo>
                    <a:lnTo>
                      <a:pt x="195" y="52"/>
                    </a:lnTo>
                    <a:lnTo>
                      <a:pt x="195" y="56"/>
                    </a:lnTo>
                    <a:lnTo>
                      <a:pt x="195" y="59"/>
                    </a:lnTo>
                    <a:lnTo>
                      <a:pt x="192" y="63"/>
                    </a:lnTo>
                    <a:lnTo>
                      <a:pt x="191" y="66"/>
                    </a:lnTo>
                    <a:lnTo>
                      <a:pt x="192" y="70"/>
                    </a:lnTo>
                    <a:lnTo>
                      <a:pt x="196" y="71"/>
                    </a:lnTo>
                    <a:lnTo>
                      <a:pt x="199" y="73"/>
                    </a:lnTo>
                    <a:lnTo>
                      <a:pt x="203" y="75"/>
                    </a:lnTo>
                    <a:lnTo>
                      <a:pt x="206" y="76"/>
                    </a:lnTo>
                    <a:lnTo>
                      <a:pt x="211" y="77"/>
                    </a:lnTo>
                    <a:lnTo>
                      <a:pt x="216" y="78"/>
                    </a:lnTo>
                    <a:lnTo>
                      <a:pt x="218" y="82"/>
                    </a:lnTo>
                    <a:lnTo>
                      <a:pt x="223" y="87"/>
                    </a:lnTo>
                    <a:lnTo>
                      <a:pt x="227" y="90"/>
                    </a:lnTo>
                    <a:lnTo>
                      <a:pt x="227" y="94"/>
                    </a:lnTo>
                    <a:lnTo>
                      <a:pt x="227" y="97"/>
                    </a:lnTo>
                    <a:lnTo>
                      <a:pt x="225" y="101"/>
                    </a:lnTo>
                    <a:lnTo>
                      <a:pt x="221" y="102"/>
                    </a:lnTo>
                    <a:lnTo>
                      <a:pt x="217" y="103"/>
                    </a:lnTo>
                    <a:lnTo>
                      <a:pt x="214" y="103"/>
                    </a:lnTo>
                    <a:lnTo>
                      <a:pt x="209" y="103"/>
                    </a:lnTo>
                    <a:lnTo>
                      <a:pt x="206" y="103"/>
                    </a:lnTo>
                    <a:lnTo>
                      <a:pt x="202" y="102"/>
                    </a:lnTo>
                    <a:lnTo>
                      <a:pt x="197" y="101"/>
                    </a:lnTo>
                    <a:lnTo>
                      <a:pt x="195" y="97"/>
                    </a:lnTo>
                    <a:lnTo>
                      <a:pt x="191" y="94"/>
                    </a:lnTo>
                    <a:lnTo>
                      <a:pt x="189" y="90"/>
                    </a:lnTo>
                    <a:lnTo>
                      <a:pt x="185" y="89"/>
                    </a:lnTo>
                    <a:lnTo>
                      <a:pt x="182" y="87"/>
                    </a:lnTo>
                    <a:lnTo>
                      <a:pt x="166" y="85"/>
                    </a:lnTo>
                    <a:lnTo>
                      <a:pt x="130" y="120"/>
                    </a:lnTo>
                    <a:lnTo>
                      <a:pt x="101" y="144"/>
                    </a:lnTo>
                    <a:lnTo>
                      <a:pt x="72" y="165"/>
                    </a:lnTo>
                    <a:lnTo>
                      <a:pt x="53" y="187"/>
                    </a:lnTo>
                    <a:lnTo>
                      <a:pt x="39" y="213"/>
                    </a:lnTo>
                    <a:lnTo>
                      <a:pt x="29" y="247"/>
                    </a:lnTo>
                    <a:lnTo>
                      <a:pt x="26" y="281"/>
                    </a:lnTo>
                    <a:lnTo>
                      <a:pt x="24" y="318"/>
                    </a:lnTo>
                    <a:lnTo>
                      <a:pt x="26" y="3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9" name="Freeform 11"/>
              <p:cNvSpPr/>
              <p:nvPr/>
            </p:nvSpPr>
            <p:spPr>
              <a:xfrm>
                <a:off x="4613400" y="4233960"/>
                <a:ext cx="349200" cy="317520"/>
              </a:xfrm>
              <a:custGeom>
                <a:avLst/>
                <a:gdLst/>
                <a:ahLst/>
                <a:rect l="l" t="t" r="r" b="b"/>
                <a:pathLst>
                  <a:path w="220" h="200">
                    <a:moveTo>
                      <a:pt x="145" y="105"/>
                    </a:moveTo>
                    <a:lnTo>
                      <a:pt x="149" y="79"/>
                    </a:lnTo>
                    <a:lnTo>
                      <a:pt x="149" y="55"/>
                    </a:lnTo>
                    <a:lnTo>
                      <a:pt x="149" y="51"/>
                    </a:lnTo>
                    <a:lnTo>
                      <a:pt x="145" y="29"/>
                    </a:lnTo>
                    <a:lnTo>
                      <a:pt x="138" y="15"/>
                    </a:lnTo>
                    <a:lnTo>
                      <a:pt x="128" y="8"/>
                    </a:lnTo>
                    <a:lnTo>
                      <a:pt x="116" y="2"/>
                    </a:lnTo>
                    <a:lnTo>
                      <a:pt x="97" y="0"/>
                    </a:lnTo>
                    <a:lnTo>
                      <a:pt x="81" y="2"/>
                    </a:lnTo>
                    <a:lnTo>
                      <a:pt x="59" y="10"/>
                    </a:lnTo>
                    <a:lnTo>
                      <a:pt x="44" y="25"/>
                    </a:lnTo>
                    <a:lnTo>
                      <a:pt x="30" y="41"/>
                    </a:lnTo>
                    <a:lnTo>
                      <a:pt x="18" y="58"/>
                    </a:lnTo>
                    <a:lnTo>
                      <a:pt x="9" y="79"/>
                    </a:lnTo>
                    <a:lnTo>
                      <a:pt x="2" y="98"/>
                    </a:lnTo>
                    <a:lnTo>
                      <a:pt x="0" y="125"/>
                    </a:lnTo>
                    <a:lnTo>
                      <a:pt x="4" y="148"/>
                    </a:lnTo>
                    <a:lnTo>
                      <a:pt x="9" y="172"/>
                    </a:lnTo>
                    <a:lnTo>
                      <a:pt x="19" y="183"/>
                    </a:lnTo>
                    <a:lnTo>
                      <a:pt x="28" y="193"/>
                    </a:lnTo>
                    <a:lnTo>
                      <a:pt x="40" y="198"/>
                    </a:lnTo>
                    <a:lnTo>
                      <a:pt x="55" y="200"/>
                    </a:lnTo>
                    <a:lnTo>
                      <a:pt x="75" y="200"/>
                    </a:lnTo>
                    <a:lnTo>
                      <a:pt x="93" y="194"/>
                    </a:lnTo>
                    <a:lnTo>
                      <a:pt x="108" y="179"/>
                    </a:lnTo>
                    <a:lnTo>
                      <a:pt x="123" y="162"/>
                    </a:lnTo>
                    <a:lnTo>
                      <a:pt x="132" y="145"/>
                    </a:lnTo>
                    <a:lnTo>
                      <a:pt x="139" y="131"/>
                    </a:lnTo>
                    <a:lnTo>
                      <a:pt x="154" y="125"/>
                    </a:lnTo>
                    <a:lnTo>
                      <a:pt x="176" y="121"/>
                    </a:lnTo>
                    <a:lnTo>
                      <a:pt x="189" y="125"/>
                    </a:lnTo>
                    <a:lnTo>
                      <a:pt x="192" y="127"/>
                    </a:lnTo>
                    <a:lnTo>
                      <a:pt x="196" y="129"/>
                    </a:lnTo>
                    <a:lnTo>
                      <a:pt x="199" y="129"/>
                    </a:lnTo>
                    <a:lnTo>
                      <a:pt x="203" y="131"/>
                    </a:lnTo>
                    <a:lnTo>
                      <a:pt x="207" y="132"/>
                    </a:lnTo>
                    <a:lnTo>
                      <a:pt x="211" y="132"/>
                    </a:lnTo>
                    <a:lnTo>
                      <a:pt x="214" y="129"/>
                    </a:lnTo>
                    <a:lnTo>
                      <a:pt x="216" y="125"/>
                    </a:lnTo>
                    <a:lnTo>
                      <a:pt x="218" y="121"/>
                    </a:lnTo>
                    <a:lnTo>
                      <a:pt x="220" y="117"/>
                    </a:lnTo>
                    <a:lnTo>
                      <a:pt x="220" y="114"/>
                    </a:lnTo>
                    <a:lnTo>
                      <a:pt x="220" y="110"/>
                    </a:lnTo>
                    <a:lnTo>
                      <a:pt x="218" y="107"/>
                    </a:lnTo>
                    <a:lnTo>
                      <a:pt x="215" y="103"/>
                    </a:lnTo>
                    <a:lnTo>
                      <a:pt x="211" y="100"/>
                    </a:lnTo>
                    <a:lnTo>
                      <a:pt x="208" y="100"/>
                    </a:lnTo>
                    <a:lnTo>
                      <a:pt x="204" y="98"/>
                    </a:lnTo>
                    <a:lnTo>
                      <a:pt x="201" y="98"/>
                    </a:lnTo>
                    <a:lnTo>
                      <a:pt x="197" y="100"/>
                    </a:lnTo>
                    <a:lnTo>
                      <a:pt x="194" y="101"/>
                    </a:lnTo>
                    <a:lnTo>
                      <a:pt x="190" y="102"/>
                    </a:lnTo>
                    <a:lnTo>
                      <a:pt x="165" y="105"/>
                    </a:lnTo>
                    <a:lnTo>
                      <a:pt x="14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0" name="Freeform 12"/>
              <p:cNvSpPr/>
              <p:nvPr/>
            </p:nvSpPr>
            <p:spPr>
              <a:xfrm>
                <a:off x="4470480" y="5086440"/>
                <a:ext cx="199800" cy="828720"/>
              </a:xfrm>
              <a:custGeom>
                <a:avLst/>
                <a:gdLst/>
                <a:ahLst/>
                <a:rect l="l" t="t" r="r" b="b"/>
                <a:pathLst>
                  <a:path w="126" h="522">
                    <a:moveTo>
                      <a:pt x="53" y="2"/>
                    </a:moveTo>
                    <a:lnTo>
                      <a:pt x="79" y="0"/>
                    </a:lnTo>
                    <a:lnTo>
                      <a:pt x="104" y="4"/>
                    </a:lnTo>
                    <a:lnTo>
                      <a:pt x="116" y="17"/>
                    </a:lnTo>
                    <a:lnTo>
                      <a:pt x="124" y="35"/>
                    </a:lnTo>
                    <a:lnTo>
                      <a:pt x="126" y="68"/>
                    </a:lnTo>
                    <a:lnTo>
                      <a:pt x="119" y="128"/>
                    </a:lnTo>
                    <a:lnTo>
                      <a:pt x="105" y="182"/>
                    </a:lnTo>
                    <a:lnTo>
                      <a:pt x="91" y="229"/>
                    </a:lnTo>
                    <a:lnTo>
                      <a:pt x="73" y="275"/>
                    </a:lnTo>
                    <a:lnTo>
                      <a:pt x="57" y="311"/>
                    </a:lnTo>
                    <a:lnTo>
                      <a:pt x="43" y="346"/>
                    </a:lnTo>
                    <a:lnTo>
                      <a:pt x="41" y="365"/>
                    </a:lnTo>
                    <a:lnTo>
                      <a:pt x="44" y="382"/>
                    </a:lnTo>
                    <a:lnTo>
                      <a:pt x="56" y="399"/>
                    </a:lnTo>
                    <a:lnTo>
                      <a:pt x="67" y="425"/>
                    </a:lnTo>
                    <a:lnTo>
                      <a:pt x="66" y="446"/>
                    </a:lnTo>
                    <a:lnTo>
                      <a:pt x="61" y="475"/>
                    </a:lnTo>
                    <a:lnTo>
                      <a:pt x="53" y="505"/>
                    </a:lnTo>
                    <a:lnTo>
                      <a:pt x="53" y="517"/>
                    </a:lnTo>
                    <a:lnTo>
                      <a:pt x="46" y="522"/>
                    </a:lnTo>
                    <a:lnTo>
                      <a:pt x="13" y="521"/>
                    </a:lnTo>
                    <a:lnTo>
                      <a:pt x="11" y="505"/>
                    </a:lnTo>
                    <a:lnTo>
                      <a:pt x="22" y="486"/>
                    </a:lnTo>
                    <a:lnTo>
                      <a:pt x="32" y="464"/>
                    </a:lnTo>
                    <a:lnTo>
                      <a:pt x="36" y="443"/>
                    </a:lnTo>
                    <a:lnTo>
                      <a:pt x="31" y="425"/>
                    </a:lnTo>
                    <a:lnTo>
                      <a:pt x="20" y="410"/>
                    </a:lnTo>
                    <a:lnTo>
                      <a:pt x="6" y="396"/>
                    </a:lnTo>
                    <a:lnTo>
                      <a:pt x="1" y="380"/>
                    </a:lnTo>
                    <a:lnTo>
                      <a:pt x="0" y="362"/>
                    </a:lnTo>
                    <a:lnTo>
                      <a:pt x="8" y="348"/>
                    </a:lnTo>
                    <a:lnTo>
                      <a:pt x="29" y="318"/>
                    </a:lnTo>
                    <a:lnTo>
                      <a:pt x="48" y="278"/>
                    </a:lnTo>
                    <a:lnTo>
                      <a:pt x="60" y="233"/>
                    </a:lnTo>
                    <a:lnTo>
                      <a:pt x="69" y="187"/>
                    </a:lnTo>
                    <a:lnTo>
                      <a:pt x="72" y="134"/>
                    </a:lnTo>
                    <a:lnTo>
                      <a:pt x="67" y="82"/>
                    </a:lnTo>
                    <a:lnTo>
                      <a:pt x="62" y="40"/>
                    </a:lnTo>
                    <a:lnTo>
                      <a:pt x="55" y="24"/>
                    </a:lnTo>
                    <a:lnTo>
                      <a:pt x="55" y="21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1" name="Freeform 13"/>
              <p:cNvSpPr/>
              <p:nvPr/>
            </p:nvSpPr>
            <p:spPr>
              <a:xfrm>
                <a:off x="3581280" y="4863960"/>
                <a:ext cx="1003320" cy="225720"/>
              </a:xfrm>
              <a:custGeom>
                <a:avLst/>
                <a:gdLst/>
                <a:ahLst/>
                <a:rect l="l" t="t" r="r" b="b"/>
                <a:pathLst>
                  <a:path w="632" h="142">
                    <a:moveTo>
                      <a:pt x="488" y="82"/>
                    </a:moveTo>
                    <a:lnTo>
                      <a:pt x="570" y="70"/>
                    </a:lnTo>
                    <a:lnTo>
                      <a:pt x="607" y="64"/>
                    </a:lnTo>
                    <a:lnTo>
                      <a:pt x="621" y="68"/>
                    </a:lnTo>
                    <a:lnTo>
                      <a:pt x="631" y="83"/>
                    </a:lnTo>
                    <a:lnTo>
                      <a:pt x="632" y="104"/>
                    </a:lnTo>
                    <a:lnTo>
                      <a:pt x="621" y="125"/>
                    </a:lnTo>
                    <a:lnTo>
                      <a:pt x="617" y="125"/>
                    </a:lnTo>
                    <a:lnTo>
                      <a:pt x="593" y="136"/>
                    </a:lnTo>
                    <a:lnTo>
                      <a:pt x="568" y="141"/>
                    </a:lnTo>
                    <a:lnTo>
                      <a:pt x="513" y="142"/>
                    </a:lnTo>
                    <a:lnTo>
                      <a:pt x="441" y="140"/>
                    </a:lnTo>
                    <a:lnTo>
                      <a:pt x="360" y="132"/>
                    </a:lnTo>
                    <a:lnTo>
                      <a:pt x="301" y="122"/>
                    </a:lnTo>
                    <a:lnTo>
                      <a:pt x="246" y="106"/>
                    </a:lnTo>
                    <a:lnTo>
                      <a:pt x="216" y="92"/>
                    </a:lnTo>
                    <a:lnTo>
                      <a:pt x="181" y="71"/>
                    </a:lnTo>
                    <a:lnTo>
                      <a:pt x="151" y="50"/>
                    </a:lnTo>
                    <a:lnTo>
                      <a:pt x="130" y="40"/>
                    </a:lnTo>
                    <a:lnTo>
                      <a:pt x="98" y="39"/>
                    </a:lnTo>
                    <a:lnTo>
                      <a:pt x="54" y="47"/>
                    </a:lnTo>
                    <a:lnTo>
                      <a:pt x="23" y="47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0" y="9"/>
                    </a:lnTo>
                    <a:lnTo>
                      <a:pt x="22" y="11"/>
                    </a:lnTo>
                    <a:lnTo>
                      <a:pt x="42" y="18"/>
                    </a:lnTo>
                    <a:lnTo>
                      <a:pt x="78" y="17"/>
                    </a:lnTo>
                    <a:lnTo>
                      <a:pt x="118" y="9"/>
                    </a:lnTo>
                    <a:lnTo>
                      <a:pt x="137" y="2"/>
                    </a:lnTo>
                    <a:lnTo>
                      <a:pt x="154" y="0"/>
                    </a:lnTo>
                    <a:lnTo>
                      <a:pt x="164" y="9"/>
                    </a:lnTo>
                    <a:lnTo>
                      <a:pt x="174" y="25"/>
                    </a:lnTo>
                    <a:lnTo>
                      <a:pt x="192" y="44"/>
                    </a:lnTo>
                    <a:lnTo>
                      <a:pt x="212" y="59"/>
                    </a:lnTo>
                    <a:lnTo>
                      <a:pt x="254" y="76"/>
                    </a:lnTo>
                    <a:lnTo>
                      <a:pt x="299" y="85"/>
                    </a:lnTo>
                    <a:lnTo>
                      <a:pt x="337" y="90"/>
                    </a:lnTo>
                    <a:lnTo>
                      <a:pt x="378" y="90"/>
                    </a:lnTo>
                    <a:lnTo>
                      <a:pt x="429" y="87"/>
                    </a:lnTo>
                    <a:lnTo>
                      <a:pt x="465" y="85"/>
                    </a:lnTo>
                    <a:lnTo>
                      <a:pt x="488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2" name="Group 17"/>
            <p:cNvGrpSpPr/>
            <p:nvPr/>
          </p:nvGrpSpPr>
          <p:grpSpPr>
            <a:xfrm>
              <a:off x="4148280" y="4788000"/>
              <a:ext cx="974520" cy="622080"/>
              <a:chOff x="4148280" y="4788000"/>
              <a:chExt cx="974520" cy="622080"/>
            </a:xfrm>
          </p:grpSpPr>
          <p:sp>
            <p:nvSpPr>
              <p:cNvPr id="1603" name="Freeform 15"/>
              <p:cNvSpPr/>
              <p:nvPr/>
            </p:nvSpPr>
            <p:spPr>
              <a:xfrm>
                <a:off x="4148280" y="4788000"/>
                <a:ext cx="974520" cy="622080"/>
              </a:xfrm>
              <a:custGeom>
                <a:avLst/>
                <a:gdLst/>
                <a:ahLst/>
                <a:rect l="l" t="t" r="r" b="b"/>
                <a:pathLst>
                  <a:path w="614" h="392">
                    <a:moveTo>
                      <a:pt x="302" y="93"/>
                    </a:moveTo>
                    <a:lnTo>
                      <a:pt x="281" y="83"/>
                    </a:lnTo>
                    <a:lnTo>
                      <a:pt x="262" y="76"/>
                    </a:lnTo>
                    <a:lnTo>
                      <a:pt x="229" y="64"/>
                    </a:lnTo>
                    <a:lnTo>
                      <a:pt x="174" y="43"/>
                    </a:lnTo>
                    <a:lnTo>
                      <a:pt x="113" y="22"/>
                    </a:lnTo>
                    <a:lnTo>
                      <a:pt x="67" y="8"/>
                    </a:lnTo>
                    <a:lnTo>
                      <a:pt x="29" y="0"/>
                    </a:lnTo>
                    <a:lnTo>
                      <a:pt x="11" y="2"/>
                    </a:lnTo>
                    <a:lnTo>
                      <a:pt x="0" y="8"/>
                    </a:lnTo>
                    <a:lnTo>
                      <a:pt x="0" y="17"/>
                    </a:lnTo>
                    <a:lnTo>
                      <a:pt x="4" y="27"/>
                    </a:lnTo>
                    <a:lnTo>
                      <a:pt x="12" y="38"/>
                    </a:lnTo>
                    <a:lnTo>
                      <a:pt x="39" y="53"/>
                    </a:lnTo>
                    <a:lnTo>
                      <a:pt x="58" y="66"/>
                    </a:lnTo>
                    <a:lnTo>
                      <a:pt x="60" y="71"/>
                    </a:lnTo>
                    <a:lnTo>
                      <a:pt x="58" y="77"/>
                    </a:lnTo>
                    <a:lnTo>
                      <a:pt x="54" y="79"/>
                    </a:lnTo>
                    <a:lnTo>
                      <a:pt x="35" y="83"/>
                    </a:lnTo>
                    <a:lnTo>
                      <a:pt x="13" y="90"/>
                    </a:lnTo>
                    <a:lnTo>
                      <a:pt x="5" y="97"/>
                    </a:lnTo>
                    <a:lnTo>
                      <a:pt x="3" y="107"/>
                    </a:lnTo>
                    <a:lnTo>
                      <a:pt x="6" y="119"/>
                    </a:lnTo>
                    <a:lnTo>
                      <a:pt x="20" y="134"/>
                    </a:lnTo>
                    <a:lnTo>
                      <a:pt x="60" y="154"/>
                    </a:lnTo>
                    <a:lnTo>
                      <a:pt x="79" y="167"/>
                    </a:lnTo>
                    <a:lnTo>
                      <a:pt x="84" y="175"/>
                    </a:lnTo>
                    <a:lnTo>
                      <a:pt x="81" y="180"/>
                    </a:lnTo>
                    <a:lnTo>
                      <a:pt x="77" y="186"/>
                    </a:lnTo>
                    <a:lnTo>
                      <a:pt x="73" y="187"/>
                    </a:lnTo>
                    <a:lnTo>
                      <a:pt x="51" y="194"/>
                    </a:lnTo>
                    <a:lnTo>
                      <a:pt x="17" y="202"/>
                    </a:lnTo>
                    <a:lnTo>
                      <a:pt x="10" y="209"/>
                    </a:lnTo>
                    <a:lnTo>
                      <a:pt x="11" y="217"/>
                    </a:lnTo>
                    <a:lnTo>
                      <a:pt x="16" y="225"/>
                    </a:lnTo>
                    <a:lnTo>
                      <a:pt x="27" y="235"/>
                    </a:lnTo>
                    <a:lnTo>
                      <a:pt x="48" y="240"/>
                    </a:lnTo>
                    <a:lnTo>
                      <a:pt x="99" y="247"/>
                    </a:lnTo>
                    <a:lnTo>
                      <a:pt x="125" y="250"/>
                    </a:lnTo>
                    <a:lnTo>
                      <a:pt x="127" y="254"/>
                    </a:lnTo>
                    <a:lnTo>
                      <a:pt x="126" y="263"/>
                    </a:lnTo>
                    <a:lnTo>
                      <a:pt x="103" y="302"/>
                    </a:lnTo>
                    <a:lnTo>
                      <a:pt x="103" y="313"/>
                    </a:lnTo>
                    <a:lnTo>
                      <a:pt x="105" y="319"/>
                    </a:lnTo>
                    <a:lnTo>
                      <a:pt x="115" y="323"/>
                    </a:lnTo>
                    <a:lnTo>
                      <a:pt x="131" y="325"/>
                    </a:lnTo>
                    <a:lnTo>
                      <a:pt x="193" y="302"/>
                    </a:lnTo>
                    <a:lnTo>
                      <a:pt x="206" y="299"/>
                    </a:lnTo>
                    <a:lnTo>
                      <a:pt x="214" y="301"/>
                    </a:lnTo>
                    <a:lnTo>
                      <a:pt x="218" y="309"/>
                    </a:lnTo>
                    <a:lnTo>
                      <a:pt x="224" y="351"/>
                    </a:lnTo>
                    <a:lnTo>
                      <a:pt x="231" y="356"/>
                    </a:lnTo>
                    <a:lnTo>
                      <a:pt x="240" y="359"/>
                    </a:lnTo>
                    <a:lnTo>
                      <a:pt x="252" y="359"/>
                    </a:lnTo>
                    <a:lnTo>
                      <a:pt x="281" y="332"/>
                    </a:lnTo>
                    <a:lnTo>
                      <a:pt x="290" y="332"/>
                    </a:lnTo>
                    <a:lnTo>
                      <a:pt x="295" y="340"/>
                    </a:lnTo>
                    <a:lnTo>
                      <a:pt x="302" y="373"/>
                    </a:lnTo>
                    <a:lnTo>
                      <a:pt x="309" y="377"/>
                    </a:lnTo>
                    <a:lnTo>
                      <a:pt x="319" y="379"/>
                    </a:lnTo>
                    <a:lnTo>
                      <a:pt x="328" y="368"/>
                    </a:lnTo>
                    <a:lnTo>
                      <a:pt x="347" y="330"/>
                    </a:lnTo>
                    <a:lnTo>
                      <a:pt x="357" y="326"/>
                    </a:lnTo>
                    <a:lnTo>
                      <a:pt x="362" y="334"/>
                    </a:lnTo>
                    <a:lnTo>
                      <a:pt x="383" y="385"/>
                    </a:lnTo>
                    <a:lnTo>
                      <a:pt x="390" y="392"/>
                    </a:lnTo>
                    <a:lnTo>
                      <a:pt x="399" y="391"/>
                    </a:lnTo>
                    <a:lnTo>
                      <a:pt x="404" y="387"/>
                    </a:lnTo>
                    <a:lnTo>
                      <a:pt x="413" y="330"/>
                    </a:lnTo>
                    <a:lnTo>
                      <a:pt x="416" y="327"/>
                    </a:lnTo>
                    <a:lnTo>
                      <a:pt x="423" y="326"/>
                    </a:lnTo>
                    <a:lnTo>
                      <a:pt x="458" y="385"/>
                    </a:lnTo>
                    <a:lnTo>
                      <a:pt x="465" y="389"/>
                    </a:lnTo>
                    <a:lnTo>
                      <a:pt x="471" y="387"/>
                    </a:lnTo>
                    <a:lnTo>
                      <a:pt x="477" y="382"/>
                    </a:lnTo>
                    <a:lnTo>
                      <a:pt x="454" y="296"/>
                    </a:lnTo>
                    <a:lnTo>
                      <a:pt x="457" y="292"/>
                    </a:lnTo>
                    <a:lnTo>
                      <a:pt x="466" y="290"/>
                    </a:lnTo>
                    <a:lnTo>
                      <a:pt x="508" y="318"/>
                    </a:lnTo>
                    <a:lnTo>
                      <a:pt x="518" y="314"/>
                    </a:lnTo>
                    <a:lnTo>
                      <a:pt x="522" y="308"/>
                    </a:lnTo>
                    <a:lnTo>
                      <a:pt x="478" y="256"/>
                    </a:lnTo>
                    <a:lnTo>
                      <a:pt x="464" y="235"/>
                    </a:lnTo>
                    <a:lnTo>
                      <a:pt x="465" y="228"/>
                    </a:lnTo>
                    <a:lnTo>
                      <a:pt x="471" y="225"/>
                    </a:lnTo>
                    <a:lnTo>
                      <a:pt x="526" y="238"/>
                    </a:lnTo>
                    <a:lnTo>
                      <a:pt x="573" y="256"/>
                    </a:lnTo>
                    <a:lnTo>
                      <a:pt x="601" y="271"/>
                    </a:lnTo>
                    <a:lnTo>
                      <a:pt x="610" y="271"/>
                    </a:lnTo>
                    <a:lnTo>
                      <a:pt x="614" y="266"/>
                    </a:lnTo>
                    <a:lnTo>
                      <a:pt x="614" y="254"/>
                    </a:lnTo>
                    <a:lnTo>
                      <a:pt x="587" y="228"/>
                    </a:lnTo>
                    <a:lnTo>
                      <a:pt x="551" y="197"/>
                    </a:lnTo>
                    <a:lnTo>
                      <a:pt x="516" y="174"/>
                    </a:lnTo>
                    <a:lnTo>
                      <a:pt x="478" y="159"/>
                    </a:lnTo>
                    <a:lnTo>
                      <a:pt x="432" y="138"/>
                    </a:lnTo>
                    <a:lnTo>
                      <a:pt x="393" y="129"/>
                    </a:lnTo>
                    <a:lnTo>
                      <a:pt x="359" y="122"/>
                    </a:lnTo>
                    <a:lnTo>
                      <a:pt x="332" y="110"/>
                    </a:lnTo>
                    <a:lnTo>
                      <a:pt x="313" y="100"/>
                    </a:lnTo>
                    <a:lnTo>
                      <a:pt x="302" y="93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Freeform 16"/>
              <p:cNvSpPr/>
              <p:nvPr/>
            </p:nvSpPr>
            <p:spPr>
              <a:xfrm>
                <a:off x="4183200" y="4811760"/>
                <a:ext cx="885600" cy="552240"/>
              </a:xfrm>
              <a:custGeom>
                <a:avLst/>
                <a:gdLst/>
                <a:ahLst/>
                <a:rect l="l" t="t" r="r" b="b"/>
                <a:pathLst>
                  <a:path w="558" h="348">
                    <a:moveTo>
                      <a:pt x="277" y="96"/>
                    </a:moveTo>
                    <a:lnTo>
                      <a:pt x="231" y="70"/>
                    </a:lnTo>
                    <a:lnTo>
                      <a:pt x="157" y="43"/>
                    </a:lnTo>
                    <a:lnTo>
                      <a:pt x="86" y="20"/>
                    </a:lnTo>
                    <a:lnTo>
                      <a:pt x="25" y="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8" y="15"/>
                    </a:lnTo>
                    <a:lnTo>
                      <a:pt x="49" y="44"/>
                    </a:lnTo>
                    <a:lnTo>
                      <a:pt x="81" y="68"/>
                    </a:lnTo>
                    <a:lnTo>
                      <a:pt x="82" y="77"/>
                    </a:lnTo>
                    <a:lnTo>
                      <a:pt x="79" y="77"/>
                    </a:lnTo>
                    <a:lnTo>
                      <a:pt x="69" y="79"/>
                    </a:lnTo>
                    <a:lnTo>
                      <a:pt x="29" y="77"/>
                    </a:lnTo>
                    <a:lnTo>
                      <a:pt x="10" y="80"/>
                    </a:lnTo>
                    <a:lnTo>
                      <a:pt x="0" y="89"/>
                    </a:lnTo>
                    <a:lnTo>
                      <a:pt x="4" y="100"/>
                    </a:lnTo>
                    <a:lnTo>
                      <a:pt x="22" y="112"/>
                    </a:lnTo>
                    <a:lnTo>
                      <a:pt x="53" y="124"/>
                    </a:lnTo>
                    <a:lnTo>
                      <a:pt x="94" y="131"/>
                    </a:lnTo>
                    <a:lnTo>
                      <a:pt x="159" y="131"/>
                    </a:lnTo>
                    <a:lnTo>
                      <a:pt x="162" y="136"/>
                    </a:lnTo>
                    <a:lnTo>
                      <a:pt x="141" y="149"/>
                    </a:lnTo>
                    <a:lnTo>
                      <a:pt x="84" y="172"/>
                    </a:lnTo>
                    <a:lnTo>
                      <a:pt x="46" y="186"/>
                    </a:lnTo>
                    <a:lnTo>
                      <a:pt x="43" y="187"/>
                    </a:lnTo>
                    <a:lnTo>
                      <a:pt x="12" y="196"/>
                    </a:lnTo>
                    <a:lnTo>
                      <a:pt x="8" y="196"/>
                    </a:lnTo>
                    <a:lnTo>
                      <a:pt x="10" y="203"/>
                    </a:lnTo>
                    <a:lnTo>
                      <a:pt x="27" y="210"/>
                    </a:lnTo>
                    <a:lnTo>
                      <a:pt x="24" y="210"/>
                    </a:lnTo>
                    <a:lnTo>
                      <a:pt x="65" y="217"/>
                    </a:lnTo>
                    <a:lnTo>
                      <a:pt x="101" y="217"/>
                    </a:lnTo>
                    <a:lnTo>
                      <a:pt x="143" y="203"/>
                    </a:lnTo>
                    <a:lnTo>
                      <a:pt x="176" y="184"/>
                    </a:lnTo>
                    <a:lnTo>
                      <a:pt x="184" y="184"/>
                    </a:lnTo>
                    <a:lnTo>
                      <a:pt x="186" y="194"/>
                    </a:lnTo>
                    <a:lnTo>
                      <a:pt x="157" y="225"/>
                    </a:lnTo>
                    <a:lnTo>
                      <a:pt x="119" y="260"/>
                    </a:lnTo>
                    <a:lnTo>
                      <a:pt x="101" y="279"/>
                    </a:lnTo>
                    <a:lnTo>
                      <a:pt x="94" y="293"/>
                    </a:lnTo>
                    <a:lnTo>
                      <a:pt x="100" y="296"/>
                    </a:lnTo>
                    <a:lnTo>
                      <a:pt x="113" y="295"/>
                    </a:lnTo>
                    <a:lnTo>
                      <a:pt x="140" y="286"/>
                    </a:lnTo>
                    <a:lnTo>
                      <a:pt x="178" y="267"/>
                    </a:lnTo>
                    <a:lnTo>
                      <a:pt x="201" y="248"/>
                    </a:lnTo>
                    <a:lnTo>
                      <a:pt x="210" y="245"/>
                    </a:lnTo>
                    <a:lnTo>
                      <a:pt x="216" y="246"/>
                    </a:lnTo>
                    <a:lnTo>
                      <a:pt x="220" y="256"/>
                    </a:lnTo>
                    <a:lnTo>
                      <a:pt x="213" y="286"/>
                    </a:lnTo>
                    <a:lnTo>
                      <a:pt x="213" y="309"/>
                    </a:lnTo>
                    <a:lnTo>
                      <a:pt x="216" y="326"/>
                    </a:lnTo>
                    <a:lnTo>
                      <a:pt x="221" y="327"/>
                    </a:lnTo>
                    <a:lnTo>
                      <a:pt x="234" y="320"/>
                    </a:lnTo>
                    <a:lnTo>
                      <a:pt x="247" y="305"/>
                    </a:lnTo>
                    <a:lnTo>
                      <a:pt x="270" y="234"/>
                    </a:lnTo>
                    <a:lnTo>
                      <a:pt x="276" y="226"/>
                    </a:lnTo>
                    <a:lnTo>
                      <a:pt x="285" y="231"/>
                    </a:lnTo>
                    <a:lnTo>
                      <a:pt x="288" y="295"/>
                    </a:lnTo>
                    <a:lnTo>
                      <a:pt x="290" y="338"/>
                    </a:lnTo>
                    <a:lnTo>
                      <a:pt x="297" y="339"/>
                    </a:lnTo>
                    <a:lnTo>
                      <a:pt x="309" y="324"/>
                    </a:lnTo>
                    <a:lnTo>
                      <a:pt x="316" y="298"/>
                    </a:lnTo>
                    <a:lnTo>
                      <a:pt x="313" y="251"/>
                    </a:lnTo>
                    <a:lnTo>
                      <a:pt x="314" y="241"/>
                    </a:lnTo>
                    <a:lnTo>
                      <a:pt x="321" y="241"/>
                    </a:lnTo>
                    <a:lnTo>
                      <a:pt x="340" y="267"/>
                    </a:lnTo>
                    <a:lnTo>
                      <a:pt x="361" y="322"/>
                    </a:lnTo>
                    <a:lnTo>
                      <a:pt x="368" y="348"/>
                    </a:lnTo>
                    <a:lnTo>
                      <a:pt x="372" y="345"/>
                    </a:lnTo>
                    <a:lnTo>
                      <a:pt x="376" y="321"/>
                    </a:lnTo>
                    <a:lnTo>
                      <a:pt x="376" y="290"/>
                    </a:lnTo>
                    <a:lnTo>
                      <a:pt x="366" y="260"/>
                    </a:lnTo>
                    <a:lnTo>
                      <a:pt x="364" y="251"/>
                    </a:lnTo>
                    <a:lnTo>
                      <a:pt x="371" y="248"/>
                    </a:lnTo>
                    <a:lnTo>
                      <a:pt x="415" y="306"/>
                    </a:lnTo>
                    <a:lnTo>
                      <a:pt x="432" y="331"/>
                    </a:lnTo>
                    <a:lnTo>
                      <a:pt x="418" y="281"/>
                    </a:lnTo>
                    <a:lnTo>
                      <a:pt x="416" y="262"/>
                    </a:lnTo>
                    <a:lnTo>
                      <a:pt x="409" y="241"/>
                    </a:lnTo>
                    <a:lnTo>
                      <a:pt x="414" y="238"/>
                    </a:lnTo>
                    <a:lnTo>
                      <a:pt x="433" y="245"/>
                    </a:lnTo>
                    <a:lnTo>
                      <a:pt x="423" y="219"/>
                    </a:lnTo>
                    <a:lnTo>
                      <a:pt x="423" y="206"/>
                    </a:lnTo>
                    <a:lnTo>
                      <a:pt x="425" y="199"/>
                    </a:lnTo>
                    <a:lnTo>
                      <a:pt x="441" y="195"/>
                    </a:lnTo>
                    <a:lnTo>
                      <a:pt x="482" y="203"/>
                    </a:lnTo>
                    <a:lnTo>
                      <a:pt x="547" y="220"/>
                    </a:lnTo>
                    <a:lnTo>
                      <a:pt x="558" y="226"/>
                    </a:lnTo>
                    <a:lnTo>
                      <a:pt x="528" y="201"/>
                    </a:lnTo>
                    <a:lnTo>
                      <a:pt x="497" y="181"/>
                    </a:lnTo>
                    <a:lnTo>
                      <a:pt x="467" y="162"/>
                    </a:lnTo>
                    <a:lnTo>
                      <a:pt x="427" y="143"/>
                    </a:lnTo>
                    <a:lnTo>
                      <a:pt x="397" y="131"/>
                    </a:lnTo>
                    <a:lnTo>
                      <a:pt x="361" y="124"/>
                    </a:lnTo>
                    <a:lnTo>
                      <a:pt x="323" y="117"/>
                    </a:lnTo>
                    <a:lnTo>
                      <a:pt x="297" y="110"/>
                    </a:lnTo>
                    <a:lnTo>
                      <a:pt x="277" y="96"/>
                    </a:lnTo>
                    <a:close/>
                  </a:path>
                </a:pathLst>
              </a:cu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05" name="Text Box 3"/>
          <p:cNvSpPr/>
          <p:nvPr/>
        </p:nvSpPr>
        <p:spPr>
          <a:xfrm>
            <a:off x="1219320" y="2743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    dance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AutoShape 4"/>
          <p:cNvSpPr/>
          <p:nvPr/>
        </p:nvSpPr>
        <p:spPr>
          <a:xfrm>
            <a:off x="3581280" y="457200"/>
            <a:ext cx="1981440" cy="941400"/>
          </a:xfrm>
          <a:prstGeom prst="borderCallout1">
            <a:avLst>
              <a:gd name="adj1" fmla="val 18750"/>
              <a:gd name="adj2" fmla="val -8333"/>
              <a:gd name="adj3" fmla="val 248398"/>
              <a:gd name="adj4" fmla="val -6328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AutoShape 5"/>
          <p:cNvSpPr/>
          <p:nvPr/>
        </p:nvSpPr>
        <p:spPr>
          <a:xfrm>
            <a:off x="6934320" y="1905120"/>
            <a:ext cx="1523880" cy="1098360"/>
          </a:xfrm>
          <a:prstGeom prst="borderCallout1">
            <a:avLst>
              <a:gd name="adj1" fmla="val 18750"/>
              <a:gd name="adj2" fmla="val -8333"/>
              <a:gd name="adj3" fmla="val 106791"/>
              <a:gd name="adj4" fmla="val -80939"/>
            </a:avLst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8" name="Group 31"/>
          <p:cNvGrpSpPr/>
          <p:nvPr/>
        </p:nvGrpSpPr>
        <p:grpSpPr>
          <a:xfrm>
            <a:off x="2286000" y="3535560"/>
            <a:ext cx="3682440" cy="2226960"/>
            <a:chOff x="2286000" y="3535560"/>
            <a:chExt cx="3682440" cy="2226960"/>
          </a:xfrm>
        </p:grpSpPr>
        <p:grpSp>
          <p:nvGrpSpPr>
            <p:cNvPr id="1609" name="Group 30"/>
            <p:cNvGrpSpPr/>
            <p:nvPr/>
          </p:nvGrpSpPr>
          <p:grpSpPr>
            <a:xfrm>
              <a:off x="2286000" y="3657600"/>
              <a:ext cx="1917720" cy="2104920"/>
              <a:chOff x="2286000" y="3657600"/>
              <a:chExt cx="1917720" cy="2104920"/>
            </a:xfrm>
          </p:grpSpPr>
          <p:grpSp>
            <p:nvGrpSpPr>
              <p:cNvPr id="1610" name="Group 10"/>
              <p:cNvGrpSpPr/>
              <p:nvPr/>
            </p:nvGrpSpPr>
            <p:grpSpPr>
              <a:xfrm>
                <a:off x="2286000" y="3657600"/>
                <a:ext cx="1917720" cy="2104920"/>
                <a:chOff x="2286000" y="3657600"/>
                <a:chExt cx="1917720" cy="2104920"/>
              </a:xfrm>
            </p:grpSpPr>
            <p:sp>
              <p:nvSpPr>
                <p:cNvPr id="1611" name="Freeform 4"/>
                <p:cNvSpPr/>
                <p:nvPr/>
              </p:nvSpPr>
              <p:spPr>
                <a:xfrm>
                  <a:off x="3152880" y="4448160"/>
                  <a:ext cx="353880" cy="57168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2" name="Freeform 5"/>
                <p:cNvSpPr/>
                <p:nvPr/>
              </p:nvSpPr>
              <p:spPr>
                <a:xfrm>
                  <a:off x="3340080" y="441792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3" name="Freeform 6"/>
                <p:cNvSpPr/>
                <p:nvPr/>
              </p:nvSpPr>
              <p:spPr>
                <a:xfrm>
                  <a:off x="3125880" y="3657600"/>
                  <a:ext cx="37296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4" name="Freeform 7"/>
                <p:cNvSpPr/>
                <p:nvPr/>
              </p:nvSpPr>
              <p:spPr>
                <a:xfrm>
                  <a:off x="3317760" y="408132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5" name="Freeform 8"/>
                <p:cNvSpPr/>
                <p:nvPr/>
              </p:nvSpPr>
              <p:spPr>
                <a:xfrm>
                  <a:off x="3174840" y="4933800"/>
                  <a:ext cx="20016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6" name="Freeform 9"/>
                <p:cNvSpPr/>
                <p:nvPr/>
              </p:nvSpPr>
              <p:spPr>
                <a:xfrm>
                  <a:off x="2286000" y="471168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17" name="Group 27"/>
              <p:cNvGrpSpPr/>
              <p:nvPr/>
            </p:nvGrpSpPr>
            <p:grpSpPr>
              <a:xfrm>
                <a:off x="2852640" y="4635360"/>
                <a:ext cx="974880" cy="622440"/>
                <a:chOff x="2852640" y="4635360"/>
                <a:chExt cx="974880" cy="622440"/>
              </a:xfrm>
            </p:grpSpPr>
            <p:sp>
              <p:nvSpPr>
                <p:cNvPr id="1618" name="Freeform 11"/>
                <p:cNvSpPr/>
                <p:nvPr/>
              </p:nvSpPr>
              <p:spPr>
                <a:xfrm>
                  <a:off x="2852640" y="4635360"/>
                  <a:ext cx="97488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ff66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19" name="Freeform 12"/>
                <p:cNvSpPr/>
                <p:nvPr/>
              </p:nvSpPr>
              <p:spPr>
                <a:xfrm>
                  <a:off x="2887560" y="4659480"/>
                  <a:ext cx="885960" cy="55224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620" name="Group 29"/>
            <p:cNvGrpSpPr/>
            <p:nvPr/>
          </p:nvGrpSpPr>
          <p:grpSpPr>
            <a:xfrm>
              <a:off x="4442040" y="3535560"/>
              <a:ext cx="1526400" cy="1944000"/>
              <a:chOff x="4442040" y="3535560"/>
              <a:chExt cx="1526400" cy="1944000"/>
            </a:xfrm>
          </p:grpSpPr>
          <p:grpSp>
            <p:nvGrpSpPr>
              <p:cNvPr id="1621" name="Group 20"/>
              <p:cNvGrpSpPr/>
              <p:nvPr/>
            </p:nvGrpSpPr>
            <p:grpSpPr>
              <a:xfrm>
                <a:off x="4442040" y="3535560"/>
                <a:ext cx="1526400" cy="1944000"/>
                <a:chOff x="4442040" y="3535560"/>
                <a:chExt cx="1526400" cy="1944000"/>
              </a:xfrm>
            </p:grpSpPr>
            <p:sp>
              <p:nvSpPr>
                <p:cNvPr id="1622" name="Freeform 14"/>
                <p:cNvSpPr/>
                <p:nvPr/>
              </p:nvSpPr>
              <p:spPr>
                <a:xfrm flipH="1" rot="1969800">
                  <a:off x="4902120" y="4245480"/>
                  <a:ext cx="353880" cy="571320"/>
                </a:xfrm>
                <a:custGeom>
                  <a:avLst/>
                  <a:gdLst/>
                  <a:ahLst/>
                  <a:rect l="l" t="t" r="r" b="b"/>
                  <a:pathLst>
                    <a:path w="223" h="360">
                      <a:moveTo>
                        <a:pt x="84" y="18"/>
                      </a:moveTo>
                      <a:lnTo>
                        <a:pt x="101" y="4"/>
                      </a:lnTo>
                      <a:lnTo>
                        <a:pt x="120" y="0"/>
                      </a:lnTo>
                      <a:lnTo>
                        <a:pt x="137" y="2"/>
                      </a:lnTo>
                      <a:lnTo>
                        <a:pt x="141" y="2"/>
                      </a:lnTo>
                      <a:lnTo>
                        <a:pt x="160" y="12"/>
                      </a:lnTo>
                      <a:lnTo>
                        <a:pt x="180" y="26"/>
                      </a:lnTo>
                      <a:lnTo>
                        <a:pt x="196" y="45"/>
                      </a:lnTo>
                      <a:lnTo>
                        <a:pt x="209" y="71"/>
                      </a:lnTo>
                      <a:lnTo>
                        <a:pt x="216" y="99"/>
                      </a:lnTo>
                      <a:lnTo>
                        <a:pt x="221" y="129"/>
                      </a:lnTo>
                      <a:lnTo>
                        <a:pt x="223" y="159"/>
                      </a:lnTo>
                      <a:lnTo>
                        <a:pt x="222" y="192"/>
                      </a:lnTo>
                      <a:lnTo>
                        <a:pt x="220" y="224"/>
                      </a:lnTo>
                      <a:lnTo>
                        <a:pt x="211" y="254"/>
                      </a:lnTo>
                      <a:lnTo>
                        <a:pt x="199" y="278"/>
                      </a:lnTo>
                      <a:lnTo>
                        <a:pt x="184" y="301"/>
                      </a:lnTo>
                      <a:lnTo>
                        <a:pt x="166" y="323"/>
                      </a:lnTo>
                      <a:lnTo>
                        <a:pt x="144" y="347"/>
                      </a:lnTo>
                      <a:lnTo>
                        <a:pt x="128" y="354"/>
                      </a:lnTo>
                      <a:lnTo>
                        <a:pt x="105" y="360"/>
                      </a:lnTo>
                      <a:lnTo>
                        <a:pt x="86" y="360"/>
                      </a:lnTo>
                      <a:lnTo>
                        <a:pt x="59" y="355"/>
                      </a:lnTo>
                      <a:lnTo>
                        <a:pt x="45" y="344"/>
                      </a:lnTo>
                      <a:lnTo>
                        <a:pt x="30" y="331"/>
                      </a:lnTo>
                      <a:lnTo>
                        <a:pt x="16" y="313"/>
                      </a:lnTo>
                      <a:lnTo>
                        <a:pt x="12" y="312"/>
                      </a:lnTo>
                      <a:lnTo>
                        <a:pt x="4" y="294"/>
                      </a:lnTo>
                      <a:lnTo>
                        <a:pt x="0" y="275"/>
                      </a:lnTo>
                      <a:lnTo>
                        <a:pt x="6" y="253"/>
                      </a:lnTo>
                      <a:lnTo>
                        <a:pt x="18" y="234"/>
                      </a:lnTo>
                      <a:lnTo>
                        <a:pt x="33" y="220"/>
                      </a:lnTo>
                      <a:lnTo>
                        <a:pt x="52" y="210"/>
                      </a:lnTo>
                      <a:lnTo>
                        <a:pt x="71" y="199"/>
                      </a:lnTo>
                      <a:lnTo>
                        <a:pt x="77" y="189"/>
                      </a:lnTo>
                      <a:lnTo>
                        <a:pt x="82" y="177"/>
                      </a:lnTo>
                      <a:lnTo>
                        <a:pt x="85" y="158"/>
                      </a:lnTo>
                      <a:lnTo>
                        <a:pt x="82" y="132"/>
                      </a:lnTo>
                      <a:lnTo>
                        <a:pt x="77" y="109"/>
                      </a:lnTo>
                      <a:lnTo>
                        <a:pt x="71" y="81"/>
                      </a:lnTo>
                      <a:lnTo>
                        <a:pt x="69" y="59"/>
                      </a:lnTo>
                      <a:lnTo>
                        <a:pt x="73" y="36"/>
                      </a:lnTo>
                      <a:lnTo>
                        <a:pt x="84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3" name="Freeform 15"/>
                <p:cNvSpPr/>
                <p:nvPr/>
              </p:nvSpPr>
              <p:spPr>
                <a:xfrm flipH="1" rot="1969800">
                  <a:off x="4410000" y="4015440"/>
                  <a:ext cx="863640" cy="136440"/>
                </a:xfrm>
                <a:custGeom>
                  <a:avLst/>
                  <a:gdLst/>
                  <a:ahLst/>
                  <a:rect l="l" t="t" r="r" b="b"/>
                  <a:pathLst>
                    <a:path w="544" h="86">
                      <a:moveTo>
                        <a:pt x="19" y="30"/>
                      </a:moveTo>
                      <a:lnTo>
                        <a:pt x="8" y="32"/>
                      </a:lnTo>
                      <a:lnTo>
                        <a:pt x="4" y="34"/>
                      </a:lnTo>
                      <a:lnTo>
                        <a:pt x="0" y="41"/>
                      </a:lnTo>
                      <a:lnTo>
                        <a:pt x="2" y="55"/>
                      </a:lnTo>
                      <a:lnTo>
                        <a:pt x="14" y="67"/>
                      </a:lnTo>
                      <a:lnTo>
                        <a:pt x="36" y="74"/>
                      </a:lnTo>
                      <a:lnTo>
                        <a:pt x="65" y="79"/>
                      </a:lnTo>
                      <a:lnTo>
                        <a:pt x="128" y="86"/>
                      </a:lnTo>
                      <a:lnTo>
                        <a:pt x="192" y="86"/>
                      </a:lnTo>
                      <a:lnTo>
                        <a:pt x="247" y="86"/>
                      </a:lnTo>
                      <a:lnTo>
                        <a:pt x="300" y="79"/>
                      </a:lnTo>
                      <a:lnTo>
                        <a:pt x="339" y="70"/>
                      </a:lnTo>
                      <a:lnTo>
                        <a:pt x="380" y="62"/>
                      </a:lnTo>
                      <a:lnTo>
                        <a:pt x="421" y="50"/>
                      </a:lnTo>
                      <a:lnTo>
                        <a:pt x="446" y="43"/>
                      </a:lnTo>
                      <a:lnTo>
                        <a:pt x="449" y="43"/>
                      </a:lnTo>
                      <a:lnTo>
                        <a:pt x="453" y="43"/>
                      </a:lnTo>
                      <a:lnTo>
                        <a:pt x="457" y="44"/>
                      </a:lnTo>
                      <a:lnTo>
                        <a:pt x="460" y="44"/>
                      </a:lnTo>
                      <a:lnTo>
                        <a:pt x="464" y="44"/>
                      </a:lnTo>
                      <a:lnTo>
                        <a:pt x="468" y="46"/>
                      </a:lnTo>
                      <a:lnTo>
                        <a:pt x="471" y="48"/>
                      </a:lnTo>
                      <a:lnTo>
                        <a:pt x="475" y="49"/>
                      </a:lnTo>
                      <a:lnTo>
                        <a:pt x="477" y="52"/>
                      </a:lnTo>
                      <a:lnTo>
                        <a:pt x="479" y="56"/>
                      </a:lnTo>
                      <a:lnTo>
                        <a:pt x="483" y="57"/>
                      </a:lnTo>
                      <a:lnTo>
                        <a:pt x="487" y="60"/>
                      </a:lnTo>
                      <a:lnTo>
                        <a:pt x="490" y="63"/>
                      </a:lnTo>
                      <a:lnTo>
                        <a:pt x="494" y="65"/>
                      </a:lnTo>
                      <a:lnTo>
                        <a:pt x="497" y="65"/>
                      </a:lnTo>
                      <a:lnTo>
                        <a:pt x="501" y="69"/>
                      </a:lnTo>
                      <a:lnTo>
                        <a:pt x="504" y="70"/>
                      </a:lnTo>
                      <a:lnTo>
                        <a:pt x="508" y="70"/>
                      </a:lnTo>
                      <a:lnTo>
                        <a:pt x="513" y="72"/>
                      </a:lnTo>
                      <a:lnTo>
                        <a:pt x="517" y="72"/>
                      </a:lnTo>
                      <a:lnTo>
                        <a:pt x="521" y="72"/>
                      </a:lnTo>
                      <a:lnTo>
                        <a:pt x="525" y="72"/>
                      </a:lnTo>
                      <a:lnTo>
                        <a:pt x="529" y="72"/>
                      </a:lnTo>
                      <a:lnTo>
                        <a:pt x="533" y="70"/>
                      </a:lnTo>
                      <a:lnTo>
                        <a:pt x="536" y="67"/>
                      </a:lnTo>
                      <a:lnTo>
                        <a:pt x="541" y="67"/>
                      </a:lnTo>
                      <a:lnTo>
                        <a:pt x="544" y="63"/>
                      </a:lnTo>
                      <a:lnTo>
                        <a:pt x="544" y="60"/>
                      </a:lnTo>
                      <a:lnTo>
                        <a:pt x="544" y="56"/>
                      </a:lnTo>
                      <a:lnTo>
                        <a:pt x="544" y="52"/>
                      </a:lnTo>
                      <a:lnTo>
                        <a:pt x="540" y="50"/>
                      </a:lnTo>
                      <a:lnTo>
                        <a:pt x="536" y="46"/>
                      </a:lnTo>
                      <a:lnTo>
                        <a:pt x="533" y="45"/>
                      </a:lnTo>
                      <a:lnTo>
                        <a:pt x="529" y="44"/>
                      </a:lnTo>
                      <a:lnTo>
                        <a:pt x="525" y="43"/>
                      </a:lnTo>
                      <a:lnTo>
                        <a:pt x="522" y="41"/>
                      </a:lnTo>
                      <a:lnTo>
                        <a:pt x="518" y="41"/>
                      </a:lnTo>
                      <a:lnTo>
                        <a:pt x="515" y="41"/>
                      </a:lnTo>
                      <a:lnTo>
                        <a:pt x="510" y="41"/>
                      </a:lnTo>
                      <a:lnTo>
                        <a:pt x="506" y="41"/>
                      </a:lnTo>
                      <a:lnTo>
                        <a:pt x="503" y="41"/>
                      </a:lnTo>
                      <a:lnTo>
                        <a:pt x="499" y="41"/>
                      </a:lnTo>
                      <a:lnTo>
                        <a:pt x="496" y="39"/>
                      </a:lnTo>
                      <a:lnTo>
                        <a:pt x="492" y="38"/>
                      </a:lnTo>
                      <a:lnTo>
                        <a:pt x="489" y="37"/>
                      </a:lnTo>
                      <a:lnTo>
                        <a:pt x="484" y="37"/>
                      </a:lnTo>
                      <a:lnTo>
                        <a:pt x="480" y="34"/>
                      </a:lnTo>
                      <a:lnTo>
                        <a:pt x="477" y="34"/>
                      </a:lnTo>
                      <a:lnTo>
                        <a:pt x="473" y="34"/>
                      </a:lnTo>
                      <a:lnTo>
                        <a:pt x="470" y="31"/>
                      </a:lnTo>
                      <a:lnTo>
                        <a:pt x="468" y="27"/>
                      </a:lnTo>
                      <a:lnTo>
                        <a:pt x="465" y="24"/>
                      </a:lnTo>
                      <a:lnTo>
                        <a:pt x="465" y="20"/>
                      </a:lnTo>
                      <a:lnTo>
                        <a:pt x="465" y="17"/>
                      </a:lnTo>
                      <a:lnTo>
                        <a:pt x="468" y="13"/>
                      </a:lnTo>
                      <a:lnTo>
                        <a:pt x="468" y="10"/>
                      </a:lnTo>
                      <a:lnTo>
                        <a:pt x="468" y="6"/>
                      </a:lnTo>
                      <a:lnTo>
                        <a:pt x="466" y="3"/>
                      </a:lnTo>
                      <a:lnTo>
                        <a:pt x="463" y="1"/>
                      </a:lnTo>
                      <a:lnTo>
                        <a:pt x="459" y="0"/>
                      </a:lnTo>
                      <a:lnTo>
                        <a:pt x="456" y="0"/>
                      </a:lnTo>
                      <a:lnTo>
                        <a:pt x="452" y="1"/>
                      </a:lnTo>
                      <a:lnTo>
                        <a:pt x="449" y="3"/>
                      </a:lnTo>
                      <a:lnTo>
                        <a:pt x="445" y="5"/>
                      </a:lnTo>
                      <a:lnTo>
                        <a:pt x="444" y="8"/>
                      </a:lnTo>
                      <a:lnTo>
                        <a:pt x="442" y="12"/>
                      </a:lnTo>
                      <a:lnTo>
                        <a:pt x="441" y="15"/>
                      </a:lnTo>
                      <a:lnTo>
                        <a:pt x="439" y="19"/>
                      </a:lnTo>
                      <a:lnTo>
                        <a:pt x="437" y="22"/>
                      </a:lnTo>
                      <a:lnTo>
                        <a:pt x="434" y="26"/>
                      </a:lnTo>
                      <a:lnTo>
                        <a:pt x="392" y="39"/>
                      </a:lnTo>
                      <a:lnTo>
                        <a:pt x="316" y="53"/>
                      </a:lnTo>
                      <a:lnTo>
                        <a:pt x="247" y="57"/>
                      </a:lnTo>
                      <a:lnTo>
                        <a:pt x="179" y="51"/>
                      </a:lnTo>
                      <a:lnTo>
                        <a:pt x="119" y="44"/>
                      </a:lnTo>
                      <a:lnTo>
                        <a:pt x="66" y="36"/>
                      </a:lnTo>
                      <a:lnTo>
                        <a:pt x="29" y="29"/>
                      </a:lnTo>
                      <a:lnTo>
                        <a:pt x="19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4" name="Freeform 16"/>
                <p:cNvSpPr/>
                <p:nvPr/>
              </p:nvSpPr>
              <p:spPr>
                <a:xfrm flipH="1" rot="1969800">
                  <a:off x="5246640" y="3564720"/>
                  <a:ext cx="373320" cy="900000"/>
                </a:xfrm>
                <a:custGeom>
                  <a:avLst/>
                  <a:gdLst/>
                  <a:ahLst/>
                  <a:rect l="l" t="t" r="r" b="b"/>
                  <a:pathLst>
                    <a:path w="235" h="567">
                      <a:moveTo>
                        <a:pt x="26" y="343"/>
                      </a:moveTo>
                      <a:lnTo>
                        <a:pt x="33" y="379"/>
                      </a:lnTo>
                      <a:lnTo>
                        <a:pt x="45" y="406"/>
                      </a:lnTo>
                      <a:lnTo>
                        <a:pt x="62" y="434"/>
                      </a:lnTo>
                      <a:lnTo>
                        <a:pt x="86" y="465"/>
                      </a:lnTo>
                      <a:lnTo>
                        <a:pt x="114" y="490"/>
                      </a:lnTo>
                      <a:lnTo>
                        <a:pt x="142" y="509"/>
                      </a:lnTo>
                      <a:lnTo>
                        <a:pt x="161" y="523"/>
                      </a:lnTo>
                      <a:lnTo>
                        <a:pt x="168" y="538"/>
                      </a:lnTo>
                      <a:lnTo>
                        <a:pt x="165" y="554"/>
                      </a:lnTo>
                      <a:lnTo>
                        <a:pt x="152" y="567"/>
                      </a:lnTo>
                      <a:lnTo>
                        <a:pt x="133" y="564"/>
                      </a:lnTo>
                      <a:lnTo>
                        <a:pt x="111" y="548"/>
                      </a:lnTo>
                      <a:lnTo>
                        <a:pt x="83" y="516"/>
                      </a:lnTo>
                      <a:lnTo>
                        <a:pt x="50" y="466"/>
                      </a:lnTo>
                      <a:lnTo>
                        <a:pt x="24" y="425"/>
                      </a:lnTo>
                      <a:lnTo>
                        <a:pt x="10" y="391"/>
                      </a:lnTo>
                      <a:lnTo>
                        <a:pt x="3" y="351"/>
                      </a:lnTo>
                      <a:lnTo>
                        <a:pt x="0" y="308"/>
                      </a:lnTo>
                      <a:lnTo>
                        <a:pt x="2" y="263"/>
                      </a:lnTo>
                      <a:lnTo>
                        <a:pt x="10" y="224"/>
                      </a:lnTo>
                      <a:lnTo>
                        <a:pt x="20" y="196"/>
                      </a:lnTo>
                      <a:lnTo>
                        <a:pt x="38" y="168"/>
                      </a:lnTo>
                      <a:lnTo>
                        <a:pt x="66" y="144"/>
                      </a:lnTo>
                      <a:lnTo>
                        <a:pt x="104" y="111"/>
                      </a:lnTo>
                      <a:lnTo>
                        <a:pt x="140" y="85"/>
                      </a:lnTo>
                      <a:lnTo>
                        <a:pt x="161" y="64"/>
                      </a:lnTo>
                      <a:lnTo>
                        <a:pt x="165" y="62"/>
                      </a:lnTo>
                      <a:lnTo>
                        <a:pt x="166" y="58"/>
                      </a:lnTo>
                      <a:lnTo>
                        <a:pt x="171" y="54"/>
                      </a:lnTo>
                      <a:lnTo>
                        <a:pt x="173" y="50"/>
                      </a:lnTo>
                      <a:lnTo>
                        <a:pt x="173" y="45"/>
                      </a:lnTo>
                      <a:lnTo>
                        <a:pt x="175" y="40"/>
                      </a:lnTo>
                      <a:lnTo>
                        <a:pt x="176" y="35"/>
                      </a:lnTo>
                      <a:lnTo>
                        <a:pt x="177" y="31"/>
                      </a:lnTo>
                      <a:lnTo>
                        <a:pt x="178" y="28"/>
                      </a:lnTo>
                      <a:lnTo>
                        <a:pt x="180" y="23"/>
                      </a:lnTo>
                      <a:lnTo>
                        <a:pt x="180" y="19"/>
                      </a:lnTo>
                      <a:lnTo>
                        <a:pt x="184" y="16"/>
                      </a:lnTo>
                      <a:lnTo>
                        <a:pt x="187" y="12"/>
                      </a:lnTo>
                      <a:lnTo>
                        <a:pt x="190" y="9"/>
                      </a:lnTo>
                      <a:lnTo>
                        <a:pt x="194" y="5"/>
                      </a:lnTo>
                      <a:lnTo>
                        <a:pt x="197" y="4"/>
                      </a:lnTo>
                      <a:lnTo>
                        <a:pt x="201" y="1"/>
                      </a:lnTo>
                      <a:lnTo>
                        <a:pt x="204" y="1"/>
                      </a:lnTo>
                      <a:lnTo>
                        <a:pt x="209" y="1"/>
                      </a:lnTo>
                      <a:lnTo>
                        <a:pt x="214" y="1"/>
                      </a:lnTo>
                      <a:lnTo>
                        <a:pt x="218" y="0"/>
                      </a:lnTo>
                      <a:lnTo>
                        <a:pt x="223" y="0"/>
                      </a:lnTo>
                      <a:lnTo>
                        <a:pt x="227" y="0"/>
                      </a:lnTo>
                      <a:lnTo>
                        <a:pt x="230" y="1"/>
                      </a:lnTo>
                      <a:lnTo>
                        <a:pt x="234" y="1"/>
                      </a:lnTo>
                      <a:lnTo>
                        <a:pt x="235" y="5"/>
                      </a:lnTo>
                      <a:lnTo>
                        <a:pt x="235" y="9"/>
                      </a:lnTo>
                      <a:lnTo>
                        <a:pt x="235" y="12"/>
                      </a:lnTo>
                      <a:lnTo>
                        <a:pt x="233" y="16"/>
                      </a:lnTo>
                      <a:lnTo>
                        <a:pt x="227" y="19"/>
                      </a:lnTo>
                      <a:lnTo>
                        <a:pt x="223" y="20"/>
                      </a:lnTo>
                      <a:lnTo>
                        <a:pt x="220" y="21"/>
                      </a:lnTo>
                      <a:lnTo>
                        <a:pt x="216" y="23"/>
                      </a:lnTo>
                      <a:lnTo>
                        <a:pt x="213" y="23"/>
                      </a:lnTo>
                      <a:lnTo>
                        <a:pt x="209" y="24"/>
                      </a:lnTo>
                      <a:lnTo>
                        <a:pt x="206" y="28"/>
                      </a:lnTo>
                      <a:lnTo>
                        <a:pt x="202" y="30"/>
                      </a:lnTo>
                      <a:lnTo>
                        <a:pt x="199" y="33"/>
                      </a:lnTo>
                      <a:lnTo>
                        <a:pt x="197" y="38"/>
                      </a:lnTo>
                      <a:lnTo>
                        <a:pt x="196" y="42"/>
                      </a:lnTo>
                      <a:lnTo>
                        <a:pt x="195" y="45"/>
                      </a:lnTo>
                      <a:lnTo>
                        <a:pt x="195" y="49"/>
                      </a:lnTo>
                      <a:lnTo>
                        <a:pt x="195" y="52"/>
                      </a:lnTo>
                      <a:lnTo>
                        <a:pt x="195" y="56"/>
                      </a:lnTo>
                      <a:lnTo>
                        <a:pt x="195" y="59"/>
                      </a:lnTo>
                      <a:lnTo>
                        <a:pt x="192" y="63"/>
                      </a:lnTo>
                      <a:lnTo>
                        <a:pt x="191" y="66"/>
                      </a:lnTo>
                      <a:lnTo>
                        <a:pt x="192" y="70"/>
                      </a:lnTo>
                      <a:lnTo>
                        <a:pt x="196" y="71"/>
                      </a:lnTo>
                      <a:lnTo>
                        <a:pt x="199" y="73"/>
                      </a:lnTo>
                      <a:lnTo>
                        <a:pt x="203" y="75"/>
                      </a:lnTo>
                      <a:lnTo>
                        <a:pt x="206" y="76"/>
                      </a:lnTo>
                      <a:lnTo>
                        <a:pt x="211" y="77"/>
                      </a:lnTo>
                      <a:lnTo>
                        <a:pt x="216" y="78"/>
                      </a:lnTo>
                      <a:lnTo>
                        <a:pt x="218" y="82"/>
                      </a:lnTo>
                      <a:lnTo>
                        <a:pt x="223" y="87"/>
                      </a:lnTo>
                      <a:lnTo>
                        <a:pt x="227" y="90"/>
                      </a:lnTo>
                      <a:lnTo>
                        <a:pt x="227" y="94"/>
                      </a:lnTo>
                      <a:lnTo>
                        <a:pt x="227" y="97"/>
                      </a:lnTo>
                      <a:lnTo>
                        <a:pt x="225" y="101"/>
                      </a:lnTo>
                      <a:lnTo>
                        <a:pt x="221" y="102"/>
                      </a:lnTo>
                      <a:lnTo>
                        <a:pt x="217" y="103"/>
                      </a:lnTo>
                      <a:lnTo>
                        <a:pt x="214" y="103"/>
                      </a:lnTo>
                      <a:lnTo>
                        <a:pt x="209" y="103"/>
                      </a:lnTo>
                      <a:lnTo>
                        <a:pt x="206" y="103"/>
                      </a:lnTo>
                      <a:lnTo>
                        <a:pt x="202" y="102"/>
                      </a:lnTo>
                      <a:lnTo>
                        <a:pt x="197" y="101"/>
                      </a:lnTo>
                      <a:lnTo>
                        <a:pt x="195" y="97"/>
                      </a:lnTo>
                      <a:lnTo>
                        <a:pt x="191" y="94"/>
                      </a:lnTo>
                      <a:lnTo>
                        <a:pt x="189" y="90"/>
                      </a:lnTo>
                      <a:lnTo>
                        <a:pt x="185" y="89"/>
                      </a:lnTo>
                      <a:lnTo>
                        <a:pt x="182" y="87"/>
                      </a:lnTo>
                      <a:lnTo>
                        <a:pt x="166" y="85"/>
                      </a:lnTo>
                      <a:lnTo>
                        <a:pt x="130" y="120"/>
                      </a:lnTo>
                      <a:lnTo>
                        <a:pt x="101" y="144"/>
                      </a:lnTo>
                      <a:lnTo>
                        <a:pt x="72" y="165"/>
                      </a:lnTo>
                      <a:lnTo>
                        <a:pt x="53" y="187"/>
                      </a:lnTo>
                      <a:lnTo>
                        <a:pt x="39" y="213"/>
                      </a:lnTo>
                      <a:lnTo>
                        <a:pt x="29" y="247"/>
                      </a:lnTo>
                      <a:lnTo>
                        <a:pt x="26" y="281"/>
                      </a:lnTo>
                      <a:lnTo>
                        <a:pt x="24" y="318"/>
                      </a:lnTo>
                      <a:lnTo>
                        <a:pt x="26" y="3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5" name="Freeform 17"/>
                <p:cNvSpPr/>
                <p:nvPr/>
              </p:nvSpPr>
              <p:spPr>
                <a:xfrm flipH="1" rot="1969800">
                  <a:off x="5034960" y="3869280"/>
                  <a:ext cx="349200" cy="317520"/>
                </a:xfrm>
                <a:custGeom>
                  <a:avLst/>
                  <a:gdLst/>
                  <a:ahLst/>
                  <a:rect l="l" t="t" r="r" b="b"/>
                  <a:pathLst>
                    <a:path w="220" h="200">
                      <a:moveTo>
                        <a:pt x="145" y="105"/>
                      </a:moveTo>
                      <a:lnTo>
                        <a:pt x="149" y="79"/>
                      </a:lnTo>
                      <a:lnTo>
                        <a:pt x="149" y="55"/>
                      </a:lnTo>
                      <a:lnTo>
                        <a:pt x="149" y="51"/>
                      </a:lnTo>
                      <a:lnTo>
                        <a:pt x="145" y="29"/>
                      </a:lnTo>
                      <a:lnTo>
                        <a:pt x="138" y="15"/>
                      </a:lnTo>
                      <a:lnTo>
                        <a:pt x="128" y="8"/>
                      </a:lnTo>
                      <a:lnTo>
                        <a:pt x="116" y="2"/>
                      </a:lnTo>
                      <a:lnTo>
                        <a:pt x="97" y="0"/>
                      </a:lnTo>
                      <a:lnTo>
                        <a:pt x="81" y="2"/>
                      </a:lnTo>
                      <a:lnTo>
                        <a:pt x="59" y="10"/>
                      </a:lnTo>
                      <a:lnTo>
                        <a:pt x="44" y="25"/>
                      </a:lnTo>
                      <a:lnTo>
                        <a:pt x="30" y="41"/>
                      </a:lnTo>
                      <a:lnTo>
                        <a:pt x="18" y="58"/>
                      </a:lnTo>
                      <a:lnTo>
                        <a:pt x="9" y="79"/>
                      </a:lnTo>
                      <a:lnTo>
                        <a:pt x="2" y="98"/>
                      </a:lnTo>
                      <a:lnTo>
                        <a:pt x="0" y="125"/>
                      </a:lnTo>
                      <a:lnTo>
                        <a:pt x="4" y="148"/>
                      </a:lnTo>
                      <a:lnTo>
                        <a:pt x="9" y="172"/>
                      </a:lnTo>
                      <a:lnTo>
                        <a:pt x="19" y="183"/>
                      </a:lnTo>
                      <a:lnTo>
                        <a:pt x="28" y="193"/>
                      </a:lnTo>
                      <a:lnTo>
                        <a:pt x="40" y="198"/>
                      </a:lnTo>
                      <a:lnTo>
                        <a:pt x="55" y="200"/>
                      </a:lnTo>
                      <a:lnTo>
                        <a:pt x="75" y="200"/>
                      </a:lnTo>
                      <a:lnTo>
                        <a:pt x="93" y="194"/>
                      </a:lnTo>
                      <a:lnTo>
                        <a:pt x="108" y="179"/>
                      </a:lnTo>
                      <a:lnTo>
                        <a:pt x="123" y="162"/>
                      </a:lnTo>
                      <a:lnTo>
                        <a:pt x="132" y="145"/>
                      </a:lnTo>
                      <a:lnTo>
                        <a:pt x="139" y="131"/>
                      </a:lnTo>
                      <a:lnTo>
                        <a:pt x="154" y="125"/>
                      </a:lnTo>
                      <a:lnTo>
                        <a:pt x="176" y="121"/>
                      </a:lnTo>
                      <a:lnTo>
                        <a:pt x="189" y="125"/>
                      </a:lnTo>
                      <a:lnTo>
                        <a:pt x="192" y="127"/>
                      </a:lnTo>
                      <a:lnTo>
                        <a:pt x="196" y="129"/>
                      </a:lnTo>
                      <a:lnTo>
                        <a:pt x="199" y="129"/>
                      </a:lnTo>
                      <a:lnTo>
                        <a:pt x="203" y="131"/>
                      </a:lnTo>
                      <a:lnTo>
                        <a:pt x="207" y="132"/>
                      </a:lnTo>
                      <a:lnTo>
                        <a:pt x="211" y="132"/>
                      </a:lnTo>
                      <a:lnTo>
                        <a:pt x="214" y="129"/>
                      </a:lnTo>
                      <a:lnTo>
                        <a:pt x="216" y="125"/>
                      </a:lnTo>
                      <a:lnTo>
                        <a:pt x="218" y="121"/>
                      </a:lnTo>
                      <a:lnTo>
                        <a:pt x="220" y="117"/>
                      </a:lnTo>
                      <a:lnTo>
                        <a:pt x="220" y="114"/>
                      </a:lnTo>
                      <a:lnTo>
                        <a:pt x="220" y="110"/>
                      </a:lnTo>
                      <a:lnTo>
                        <a:pt x="218" y="107"/>
                      </a:lnTo>
                      <a:lnTo>
                        <a:pt x="215" y="103"/>
                      </a:lnTo>
                      <a:lnTo>
                        <a:pt x="211" y="100"/>
                      </a:lnTo>
                      <a:lnTo>
                        <a:pt x="208" y="100"/>
                      </a:lnTo>
                      <a:lnTo>
                        <a:pt x="204" y="98"/>
                      </a:lnTo>
                      <a:lnTo>
                        <a:pt x="201" y="98"/>
                      </a:lnTo>
                      <a:lnTo>
                        <a:pt x="197" y="100"/>
                      </a:lnTo>
                      <a:lnTo>
                        <a:pt x="194" y="101"/>
                      </a:lnTo>
                      <a:lnTo>
                        <a:pt x="190" y="102"/>
                      </a:lnTo>
                      <a:lnTo>
                        <a:pt x="165" y="105"/>
                      </a:lnTo>
                      <a:lnTo>
                        <a:pt x="145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6" name="Freeform 18"/>
                <p:cNvSpPr/>
                <p:nvPr/>
              </p:nvSpPr>
              <p:spPr>
                <a:xfrm flipH="1" rot="1969800">
                  <a:off x="4691880" y="4662720"/>
                  <a:ext cx="199800" cy="828720"/>
                </a:xfrm>
                <a:custGeom>
                  <a:avLst/>
                  <a:gdLst/>
                  <a:ahLst/>
                  <a:rect l="l" t="t" r="r" b="b"/>
                  <a:pathLst>
                    <a:path w="126" h="522">
                      <a:moveTo>
                        <a:pt x="53" y="2"/>
                      </a:moveTo>
                      <a:lnTo>
                        <a:pt x="79" y="0"/>
                      </a:lnTo>
                      <a:lnTo>
                        <a:pt x="104" y="4"/>
                      </a:lnTo>
                      <a:lnTo>
                        <a:pt x="116" y="17"/>
                      </a:lnTo>
                      <a:lnTo>
                        <a:pt x="124" y="35"/>
                      </a:lnTo>
                      <a:lnTo>
                        <a:pt x="126" y="68"/>
                      </a:lnTo>
                      <a:lnTo>
                        <a:pt x="119" y="128"/>
                      </a:lnTo>
                      <a:lnTo>
                        <a:pt x="105" y="182"/>
                      </a:lnTo>
                      <a:lnTo>
                        <a:pt x="91" y="229"/>
                      </a:lnTo>
                      <a:lnTo>
                        <a:pt x="73" y="275"/>
                      </a:lnTo>
                      <a:lnTo>
                        <a:pt x="57" y="311"/>
                      </a:lnTo>
                      <a:lnTo>
                        <a:pt x="43" y="346"/>
                      </a:lnTo>
                      <a:lnTo>
                        <a:pt x="41" y="365"/>
                      </a:lnTo>
                      <a:lnTo>
                        <a:pt x="44" y="382"/>
                      </a:lnTo>
                      <a:lnTo>
                        <a:pt x="56" y="399"/>
                      </a:lnTo>
                      <a:lnTo>
                        <a:pt x="67" y="425"/>
                      </a:lnTo>
                      <a:lnTo>
                        <a:pt x="66" y="446"/>
                      </a:lnTo>
                      <a:lnTo>
                        <a:pt x="61" y="475"/>
                      </a:lnTo>
                      <a:lnTo>
                        <a:pt x="53" y="505"/>
                      </a:lnTo>
                      <a:lnTo>
                        <a:pt x="53" y="517"/>
                      </a:lnTo>
                      <a:lnTo>
                        <a:pt x="46" y="522"/>
                      </a:lnTo>
                      <a:lnTo>
                        <a:pt x="13" y="521"/>
                      </a:lnTo>
                      <a:lnTo>
                        <a:pt x="11" y="505"/>
                      </a:lnTo>
                      <a:lnTo>
                        <a:pt x="22" y="486"/>
                      </a:lnTo>
                      <a:lnTo>
                        <a:pt x="32" y="464"/>
                      </a:lnTo>
                      <a:lnTo>
                        <a:pt x="36" y="443"/>
                      </a:lnTo>
                      <a:lnTo>
                        <a:pt x="31" y="425"/>
                      </a:lnTo>
                      <a:lnTo>
                        <a:pt x="20" y="410"/>
                      </a:lnTo>
                      <a:lnTo>
                        <a:pt x="6" y="396"/>
                      </a:lnTo>
                      <a:lnTo>
                        <a:pt x="1" y="380"/>
                      </a:lnTo>
                      <a:lnTo>
                        <a:pt x="0" y="362"/>
                      </a:lnTo>
                      <a:lnTo>
                        <a:pt x="8" y="348"/>
                      </a:lnTo>
                      <a:lnTo>
                        <a:pt x="29" y="318"/>
                      </a:lnTo>
                      <a:lnTo>
                        <a:pt x="48" y="278"/>
                      </a:lnTo>
                      <a:lnTo>
                        <a:pt x="60" y="233"/>
                      </a:lnTo>
                      <a:lnTo>
                        <a:pt x="69" y="187"/>
                      </a:lnTo>
                      <a:lnTo>
                        <a:pt x="72" y="134"/>
                      </a:lnTo>
                      <a:lnTo>
                        <a:pt x="67" y="82"/>
                      </a:lnTo>
                      <a:lnTo>
                        <a:pt x="62" y="40"/>
                      </a:lnTo>
                      <a:lnTo>
                        <a:pt x="55" y="24"/>
                      </a:lnTo>
                      <a:lnTo>
                        <a:pt x="55" y="21"/>
                      </a:lnTo>
                      <a:lnTo>
                        <a:pt x="5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27" name="Freeform 19"/>
                <p:cNvSpPr/>
                <p:nvPr/>
              </p:nvSpPr>
              <p:spPr>
                <a:xfrm flipH="1" rot="1969800">
                  <a:off x="4983840" y="4788720"/>
                  <a:ext cx="1003320" cy="225360"/>
                </a:xfrm>
                <a:custGeom>
                  <a:avLst/>
                  <a:gdLst/>
                  <a:ahLst/>
                  <a:rect l="l" t="t" r="r" b="b"/>
                  <a:pathLst>
                    <a:path w="632" h="142">
                      <a:moveTo>
                        <a:pt x="488" y="82"/>
                      </a:moveTo>
                      <a:lnTo>
                        <a:pt x="570" y="70"/>
                      </a:lnTo>
                      <a:lnTo>
                        <a:pt x="607" y="64"/>
                      </a:lnTo>
                      <a:lnTo>
                        <a:pt x="621" y="68"/>
                      </a:lnTo>
                      <a:lnTo>
                        <a:pt x="631" y="83"/>
                      </a:lnTo>
                      <a:lnTo>
                        <a:pt x="632" y="104"/>
                      </a:lnTo>
                      <a:lnTo>
                        <a:pt x="621" y="125"/>
                      </a:lnTo>
                      <a:lnTo>
                        <a:pt x="617" y="125"/>
                      </a:lnTo>
                      <a:lnTo>
                        <a:pt x="593" y="136"/>
                      </a:lnTo>
                      <a:lnTo>
                        <a:pt x="568" y="141"/>
                      </a:lnTo>
                      <a:lnTo>
                        <a:pt x="513" y="142"/>
                      </a:lnTo>
                      <a:lnTo>
                        <a:pt x="441" y="140"/>
                      </a:lnTo>
                      <a:lnTo>
                        <a:pt x="360" y="132"/>
                      </a:lnTo>
                      <a:lnTo>
                        <a:pt x="301" y="122"/>
                      </a:lnTo>
                      <a:lnTo>
                        <a:pt x="246" y="106"/>
                      </a:lnTo>
                      <a:lnTo>
                        <a:pt x="216" y="92"/>
                      </a:lnTo>
                      <a:lnTo>
                        <a:pt x="181" y="71"/>
                      </a:lnTo>
                      <a:lnTo>
                        <a:pt x="151" y="50"/>
                      </a:lnTo>
                      <a:lnTo>
                        <a:pt x="130" y="40"/>
                      </a:lnTo>
                      <a:lnTo>
                        <a:pt x="98" y="39"/>
                      </a:lnTo>
                      <a:lnTo>
                        <a:pt x="54" y="47"/>
                      </a:lnTo>
                      <a:lnTo>
                        <a:pt x="23" y="47"/>
                      </a:lnTo>
                      <a:lnTo>
                        <a:pt x="2" y="36"/>
                      </a:lnTo>
                      <a:lnTo>
                        <a:pt x="0" y="19"/>
                      </a:lnTo>
                      <a:lnTo>
                        <a:pt x="10" y="9"/>
                      </a:lnTo>
                      <a:lnTo>
                        <a:pt x="22" y="11"/>
                      </a:lnTo>
                      <a:lnTo>
                        <a:pt x="42" y="18"/>
                      </a:lnTo>
                      <a:lnTo>
                        <a:pt x="78" y="17"/>
                      </a:lnTo>
                      <a:lnTo>
                        <a:pt x="118" y="9"/>
                      </a:lnTo>
                      <a:lnTo>
                        <a:pt x="137" y="2"/>
                      </a:lnTo>
                      <a:lnTo>
                        <a:pt x="154" y="0"/>
                      </a:lnTo>
                      <a:lnTo>
                        <a:pt x="164" y="9"/>
                      </a:lnTo>
                      <a:lnTo>
                        <a:pt x="174" y="25"/>
                      </a:lnTo>
                      <a:lnTo>
                        <a:pt x="192" y="44"/>
                      </a:lnTo>
                      <a:lnTo>
                        <a:pt x="212" y="59"/>
                      </a:lnTo>
                      <a:lnTo>
                        <a:pt x="254" y="76"/>
                      </a:lnTo>
                      <a:lnTo>
                        <a:pt x="299" y="85"/>
                      </a:lnTo>
                      <a:lnTo>
                        <a:pt x="337" y="90"/>
                      </a:lnTo>
                      <a:lnTo>
                        <a:pt x="378" y="90"/>
                      </a:lnTo>
                      <a:lnTo>
                        <a:pt x="429" y="87"/>
                      </a:lnTo>
                      <a:lnTo>
                        <a:pt x="465" y="85"/>
                      </a:lnTo>
                      <a:lnTo>
                        <a:pt x="488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28" name="Group 23"/>
              <p:cNvGrpSpPr/>
              <p:nvPr/>
            </p:nvGrpSpPr>
            <p:grpSpPr>
              <a:xfrm>
                <a:off x="4495680" y="4351320"/>
                <a:ext cx="974520" cy="622440"/>
                <a:chOff x="4495680" y="4351320"/>
                <a:chExt cx="974520" cy="622440"/>
              </a:xfrm>
            </p:grpSpPr>
            <p:sp>
              <p:nvSpPr>
                <p:cNvPr id="1629" name="Freeform 21"/>
                <p:cNvSpPr/>
                <p:nvPr/>
              </p:nvSpPr>
              <p:spPr>
                <a:xfrm>
                  <a:off x="4495680" y="4351320"/>
                  <a:ext cx="974520" cy="622440"/>
                </a:xfrm>
                <a:custGeom>
                  <a:avLst/>
                  <a:gdLst/>
                  <a:ahLst/>
                  <a:rect l="l" t="t" r="r" b="b"/>
                  <a:pathLst>
                    <a:path w="614" h="392">
                      <a:moveTo>
                        <a:pt x="302" y="93"/>
                      </a:moveTo>
                      <a:lnTo>
                        <a:pt x="281" y="83"/>
                      </a:lnTo>
                      <a:lnTo>
                        <a:pt x="262" y="76"/>
                      </a:lnTo>
                      <a:lnTo>
                        <a:pt x="229" y="64"/>
                      </a:lnTo>
                      <a:lnTo>
                        <a:pt x="174" y="43"/>
                      </a:lnTo>
                      <a:lnTo>
                        <a:pt x="113" y="22"/>
                      </a:lnTo>
                      <a:lnTo>
                        <a:pt x="67" y="8"/>
                      </a:lnTo>
                      <a:lnTo>
                        <a:pt x="29" y="0"/>
                      </a:lnTo>
                      <a:lnTo>
                        <a:pt x="11" y="2"/>
                      </a:lnTo>
                      <a:lnTo>
                        <a:pt x="0" y="8"/>
                      </a:lnTo>
                      <a:lnTo>
                        <a:pt x="0" y="17"/>
                      </a:lnTo>
                      <a:lnTo>
                        <a:pt x="4" y="27"/>
                      </a:lnTo>
                      <a:lnTo>
                        <a:pt x="12" y="38"/>
                      </a:lnTo>
                      <a:lnTo>
                        <a:pt x="39" y="53"/>
                      </a:lnTo>
                      <a:lnTo>
                        <a:pt x="58" y="66"/>
                      </a:lnTo>
                      <a:lnTo>
                        <a:pt x="60" y="71"/>
                      </a:lnTo>
                      <a:lnTo>
                        <a:pt x="58" y="77"/>
                      </a:lnTo>
                      <a:lnTo>
                        <a:pt x="54" y="79"/>
                      </a:lnTo>
                      <a:lnTo>
                        <a:pt x="35" y="83"/>
                      </a:lnTo>
                      <a:lnTo>
                        <a:pt x="13" y="90"/>
                      </a:lnTo>
                      <a:lnTo>
                        <a:pt x="5" y="97"/>
                      </a:lnTo>
                      <a:lnTo>
                        <a:pt x="3" y="107"/>
                      </a:lnTo>
                      <a:lnTo>
                        <a:pt x="6" y="119"/>
                      </a:lnTo>
                      <a:lnTo>
                        <a:pt x="20" y="134"/>
                      </a:lnTo>
                      <a:lnTo>
                        <a:pt x="60" y="154"/>
                      </a:lnTo>
                      <a:lnTo>
                        <a:pt x="79" y="167"/>
                      </a:lnTo>
                      <a:lnTo>
                        <a:pt x="84" y="175"/>
                      </a:lnTo>
                      <a:lnTo>
                        <a:pt x="81" y="180"/>
                      </a:lnTo>
                      <a:lnTo>
                        <a:pt x="77" y="186"/>
                      </a:lnTo>
                      <a:lnTo>
                        <a:pt x="73" y="187"/>
                      </a:lnTo>
                      <a:lnTo>
                        <a:pt x="51" y="194"/>
                      </a:lnTo>
                      <a:lnTo>
                        <a:pt x="17" y="202"/>
                      </a:lnTo>
                      <a:lnTo>
                        <a:pt x="10" y="209"/>
                      </a:lnTo>
                      <a:lnTo>
                        <a:pt x="11" y="217"/>
                      </a:lnTo>
                      <a:lnTo>
                        <a:pt x="16" y="225"/>
                      </a:lnTo>
                      <a:lnTo>
                        <a:pt x="27" y="235"/>
                      </a:lnTo>
                      <a:lnTo>
                        <a:pt x="48" y="240"/>
                      </a:lnTo>
                      <a:lnTo>
                        <a:pt x="99" y="247"/>
                      </a:lnTo>
                      <a:lnTo>
                        <a:pt x="125" y="250"/>
                      </a:lnTo>
                      <a:lnTo>
                        <a:pt x="127" y="254"/>
                      </a:lnTo>
                      <a:lnTo>
                        <a:pt x="126" y="263"/>
                      </a:lnTo>
                      <a:lnTo>
                        <a:pt x="103" y="302"/>
                      </a:lnTo>
                      <a:lnTo>
                        <a:pt x="103" y="313"/>
                      </a:lnTo>
                      <a:lnTo>
                        <a:pt x="105" y="319"/>
                      </a:lnTo>
                      <a:lnTo>
                        <a:pt x="115" y="323"/>
                      </a:lnTo>
                      <a:lnTo>
                        <a:pt x="131" y="325"/>
                      </a:lnTo>
                      <a:lnTo>
                        <a:pt x="193" y="302"/>
                      </a:lnTo>
                      <a:lnTo>
                        <a:pt x="206" y="299"/>
                      </a:lnTo>
                      <a:lnTo>
                        <a:pt x="214" y="301"/>
                      </a:lnTo>
                      <a:lnTo>
                        <a:pt x="218" y="309"/>
                      </a:lnTo>
                      <a:lnTo>
                        <a:pt x="224" y="351"/>
                      </a:lnTo>
                      <a:lnTo>
                        <a:pt x="231" y="356"/>
                      </a:lnTo>
                      <a:lnTo>
                        <a:pt x="240" y="359"/>
                      </a:lnTo>
                      <a:lnTo>
                        <a:pt x="252" y="359"/>
                      </a:lnTo>
                      <a:lnTo>
                        <a:pt x="281" y="332"/>
                      </a:lnTo>
                      <a:lnTo>
                        <a:pt x="290" y="332"/>
                      </a:lnTo>
                      <a:lnTo>
                        <a:pt x="295" y="340"/>
                      </a:lnTo>
                      <a:lnTo>
                        <a:pt x="302" y="373"/>
                      </a:lnTo>
                      <a:lnTo>
                        <a:pt x="309" y="377"/>
                      </a:lnTo>
                      <a:lnTo>
                        <a:pt x="319" y="379"/>
                      </a:lnTo>
                      <a:lnTo>
                        <a:pt x="328" y="368"/>
                      </a:lnTo>
                      <a:lnTo>
                        <a:pt x="347" y="330"/>
                      </a:lnTo>
                      <a:lnTo>
                        <a:pt x="357" y="326"/>
                      </a:lnTo>
                      <a:lnTo>
                        <a:pt x="362" y="334"/>
                      </a:lnTo>
                      <a:lnTo>
                        <a:pt x="383" y="385"/>
                      </a:lnTo>
                      <a:lnTo>
                        <a:pt x="390" y="392"/>
                      </a:lnTo>
                      <a:lnTo>
                        <a:pt x="399" y="391"/>
                      </a:lnTo>
                      <a:lnTo>
                        <a:pt x="404" y="387"/>
                      </a:lnTo>
                      <a:lnTo>
                        <a:pt x="413" y="330"/>
                      </a:lnTo>
                      <a:lnTo>
                        <a:pt x="416" y="327"/>
                      </a:lnTo>
                      <a:lnTo>
                        <a:pt x="423" y="326"/>
                      </a:lnTo>
                      <a:lnTo>
                        <a:pt x="458" y="385"/>
                      </a:lnTo>
                      <a:lnTo>
                        <a:pt x="465" y="389"/>
                      </a:lnTo>
                      <a:lnTo>
                        <a:pt x="471" y="387"/>
                      </a:lnTo>
                      <a:lnTo>
                        <a:pt x="477" y="382"/>
                      </a:lnTo>
                      <a:lnTo>
                        <a:pt x="454" y="296"/>
                      </a:lnTo>
                      <a:lnTo>
                        <a:pt x="457" y="292"/>
                      </a:lnTo>
                      <a:lnTo>
                        <a:pt x="466" y="290"/>
                      </a:lnTo>
                      <a:lnTo>
                        <a:pt x="508" y="318"/>
                      </a:lnTo>
                      <a:lnTo>
                        <a:pt x="518" y="314"/>
                      </a:lnTo>
                      <a:lnTo>
                        <a:pt x="522" y="308"/>
                      </a:lnTo>
                      <a:lnTo>
                        <a:pt x="478" y="256"/>
                      </a:lnTo>
                      <a:lnTo>
                        <a:pt x="464" y="235"/>
                      </a:lnTo>
                      <a:lnTo>
                        <a:pt x="465" y="228"/>
                      </a:lnTo>
                      <a:lnTo>
                        <a:pt x="471" y="225"/>
                      </a:lnTo>
                      <a:lnTo>
                        <a:pt x="526" y="238"/>
                      </a:lnTo>
                      <a:lnTo>
                        <a:pt x="573" y="256"/>
                      </a:lnTo>
                      <a:lnTo>
                        <a:pt x="601" y="271"/>
                      </a:lnTo>
                      <a:lnTo>
                        <a:pt x="610" y="271"/>
                      </a:lnTo>
                      <a:lnTo>
                        <a:pt x="614" y="266"/>
                      </a:lnTo>
                      <a:lnTo>
                        <a:pt x="614" y="254"/>
                      </a:lnTo>
                      <a:lnTo>
                        <a:pt x="587" y="228"/>
                      </a:lnTo>
                      <a:lnTo>
                        <a:pt x="551" y="197"/>
                      </a:lnTo>
                      <a:lnTo>
                        <a:pt x="516" y="174"/>
                      </a:lnTo>
                      <a:lnTo>
                        <a:pt x="478" y="159"/>
                      </a:lnTo>
                      <a:lnTo>
                        <a:pt x="432" y="138"/>
                      </a:lnTo>
                      <a:lnTo>
                        <a:pt x="393" y="129"/>
                      </a:lnTo>
                      <a:lnTo>
                        <a:pt x="359" y="122"/>
                      </a:lnTo>
                      <a:lnTo>
                        <a:pt x="332" y="110"/>
                      </a:lnTo>
                      <a:lnTo>
                        <a:pt x="313" y="100"/>
                      </a:lnTo>
                      <a:lnTo>
                        <a:pt x="302" y="93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30" name="Freeform 22"/>
                <p:cNvSpPr/>
                <p:nvPr/>
              </p:nvSpPr>
              <p:spPr>
                <a:xfrm>
                  <a:off x="4530600" y="4375080"/>
                  <a:ext cx="885600" cy="552600"/>
                </a:xfrm>
                <a:custGeom>
                  <a:avLst/>
                  <a:gdLst/>
                  <a:ahLst/>
                  <a:rect l="l" t="t" r="r" b="b"/>
                  <a:pathLst>
                    <a:path w="558" h="348">
                      <a:moveTo>
                        <a:pt x="277" y="96"/>
                      </a:moveTo>
                      <a:lnTo>
                        <a:pt x="231" y="70"/>
                      </a:lnTo>
                      <a:lnTo>
                        <a:pt x="157" y="43"/>
                      </a:lnTo>
                      <a:lnTo>
                        <a:pt x="86" y="20"/>
                      </a:lnTo>
                      <a:lnTo>
                        <a:pt x="25" y="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8" y="15"/>
                      </a:lnTo>
                      <a:lnTo>
                        <a:pt x="49" y="44"/>
                      </a:lnTo>
                      <a:lnTo>
                        <a:pt x="81" y="68"/>
                      </a:lnTo>
                      <a:lnTo>
                        <a:pt x="82" y="77"/>
                      </a:lnTo>
                      <a:lnTo>
                        <a:pt x="79" y="77"/>
                      </a:lnTo>
                      <a:lnTo>
                        <a:pt x="69" y="79"/>
                      </a:lnTo>
                      <a:lnTo>
                        <a:pt x="29" y="77"/>
                      </a:lnTo>
                      <a:lnTo>
                        <a:pt x="10" y="80"/>
                      </a:lnTo>
                      <a:lnTo>
                        <a:pt x="0" y="89"/>
                      </a:lnTo>
                      <a:lnTo>
                        <a:pt x="4" y="100"/>
                      </a:lnTo>
                      <a:lnTo>
                        <a:pt x="22" y="112"/>
                      </a:lnTo>
                      <a:lnTo>
                        <a:pt x="53" y="124"/>
                      </a:lnTo>
                      <a:lnTo>
                        <a:pt x="94" y="131"/>
                      </a:lnTo>
                      <a:lnTo>
                        <a:pt x="159" y="131"/>
                      </a:lnTo>
                      <a:lnTo>
                        <a:pt x="162" y="136"/>
                      </a:lnTo>
                      <a:lnTo>
                        <a:pt x="141" y="149"/>
                      </a:lnTo>
                      <a:lnTo>
                        <a:pt x="84" y="172"/>
                      </a:lnTo>
                      <a:lnTo>
                        <a:pt x="46" y="186"/>
                      </a:lnTo>
                      <a:lnTo>
                        <a:pt x="43" y="187"/>
                      </a:lnTo>
                      <a:lnTo>
                        <a:pt x="12" y="196"/>
                      </a:lnTo>
                      <a:lnTo>
                        <a:pt x="8" y="196"/>
                      </a:lnTo>
                      <a:lnTo>
                        <a:pt x="10" y="203"/>
                      </a:lnTo>
                      <a:lnTo>
                        <a:pt x="27" y="210"/>
                      </a:lnTo>
                      <a:lnTo>
                        <a:pt x="24" y="210"/>
                      </a:lnTo>
                      <a:lnTo>
                        <a:pt x="65" y="217"/>
                      </a:lnTo>
                      <a:lnTo>
                        <a:pt x="101" y="217"/>
                      </a:lnTo>
                      <a:lnTo>
                        <a:pt x="143" y="203"/>
                      </a:lnTo>
                      <a:lnTo>
                        <a:pt x="176" y="184"/>
                      </a:lnTo>
                      <a:lnTo>
                        <a:pt x="184" y="184"/>
                      </a:lnTo>
                      <a:lnTo>
                        <a:pt x="186" y="194"/>
                      </a:lnTo>
                      <a:lnTo>
                        <a:pt x="157" y="225"/>
                      </a:lnTo>
                      <a:lnTo>
                        <a:pt x="119" y="260"/>
                      </a:lnTo>
                      <a:lnTo>
                        <a:pt x="101" y="279"/>
                      </a:lnTo>
                      <a:lnTo>
                        <a:pt x="94" y="293"/>
                      </a:lnTo>
                      <a:lnTo>
                        <a:pt x="100" y="296"/>
                      </a:lnTo>
                      <a:lnTo>
                        <a:pt x="113" y="295"/>
                      </a:lnTo>
                      <a:lnTo>
                        <a:pt x="140" y="286"/>
                      </a:lnTo>
                      <a:lnTo>
                        <a:pt x="178" y="267"/>
                      </a:lnTo>
                      <a:lnTo>
                        <a:pt x="201" y="248"/>
                      </a:lnTo>
                      <a:lnTo>
                        <a:pt x="210" y="245"/>
                      </a:lnTo>
                      <a:lnTo>
                        <a:pt x="216" y="246"/>
                      </a:lnTo>
                      <a:lnTo>
                        <a:pt x="220" y="256"/>
                      </a:lnTo>
                      <a:lnTo>
                        <a:pt x="213" y="286"/>
                      </a:lnTo>
                      <a:lnTo>
                        <a:pt x="213" y="309"/>
                      </a:lnTo>
                      <a:lnTo>
                        <a:pt x="216" y="326"/>
                      </a:lnTo>
                      <a:lnTo>
                        <a:pt x="221" y="327"/>
                      </a:lnTo>
                      <a:lnTo>
                        <a:pt x="234" y="320"/>
                      </a:lnTo>
                      <a:lnTo>
                        <a:pt x="247" y="305"/>
                      </a:lnTo>
                      <a:lnTo>
                        <a:pt x="270" y="234"/>
                      </a:lnTo>
                      <a:lnTo>
                        <a:pt x="276" y="226"/>
                      </a:lnTo>
                      <a:lnTo>
                        <a:pt x="285" y="231"/>
                      </a:lnTo>
                      <a:lnTo>
                        <a:pt x="288" y="295"/>
                      </a:lnTo>
                      <a:lnTo>
                        <a:pt x="290" y="338"/>
                      </a:lnTo>
                      <a:lnTo>
                        <a:pt x="297" y="339"/>
                      </a:lnTo>
                      <a:lnTo>
                        <a:pt x="309" y="324"/>
                      </a:lnTo>
                      <a:lnTo>
                        <a:pt x="316" y="298"/>
                      </a:lnTo>
                      <a:lnTo>
                        <a:pt x="313" y="251"/>
                      </a:lnTo>
                      <a:lnTo>
                        <a:pt x="314" y="241"/>
                      </a:lnTo>
                      <a:lnTo>
                        <a:pt x="321" y="241"/>
                      </a:lnTo>
                      <a:lnTo>
                        <a:pt x="340" y="267"/>
                      </a:lnTo>
                      <a:lnTo>
                        <a:pt x="361" y="322"/>
                      </a:lnTo>
                      <a:lnTo>
                        <a:pt x="368" y="348"/>
                      </a:lnTo>
                      <a:lnTo>
                        <a:pt x="372" y="345"/>
                      </a:lnTo>
                      <a:lnTo>
                        <a:pt x="376" y="321"/>
                      </a:lnTo>
                      <a:lnTo>
                        <a:pt x="376" y="290"/>
                      </a:lnTo>
                      <a:lnTo>
                        <a:pt x="366" y="260"/>
                      </a:lnTo>
                      <a:lnTo>
                        <a:pt x="364" y="251"/>
                      </a:lnTo>
                      <a:lnTo>
                        <a:pt x="371" y="248"/>
                      </a:lnTo>
                      <a:lnTo>
                        <a:pt x="415" y="306"/>
                      </a:lnTo>
                      <a:lnTo>
                        <a:pt x="432" y="331"/>
                      </a:lnTo>
                      <a:lnTo>
                        <a:pt x="418" y="281"/>
                      </a:lnTo>
                      <a:lnTo>
                        <a:pt x="416" y="262"/>
                      </a:lnTo>
                      <a:lnTo>
                        <a:pt x="409" y="241"/>
                      </a:lnTo>
                      <a:lnTo>
                        <a:pt x="414" y="238"/>
                      </a:lnTo>
                      <a:lnTo>
                        <a:pt x="433" y="245"/>
                      </a:lnTo>
                      <a:lnTo>
                        <a:pt x="423" y="219"/>
                      </a:lnTo>
                      <a:lnTo>
                        <a:pt x="423" y="206"/>
                      </a:lnTo>
                      <a:lnTo>
                        <a:pt x="425" y="199"/>
                      </a:lnTo>
                      <a:lnTo>
                        <a:pt x="441" y="195"/>
                      </a:lnTo>
                      <a:lnTo>
                        <a:pt x="482" y="203"/>
                      </a:lnTo>
                      <a:lnTo>
                        <a:pt x="547" y="220"/>
                      </a:lnTo>
                      <a:lnTo>
                        <a:pt x="558" y="226"/>
                      </a:lnTo>
                      <a:lnTo>
                        <a:pt x="528" y="201"/>
                      </a:lnTo>
                      <a:lnTo>
                        <a:pt x="497" y="181"/>
                      </a:lnTo>
                      <a:lnTo>
                        <a:pt x="467" y="162"/>
                      </a:lnTo>
                      <a:lnTo>
                        <a:pt x="427" y="143"/>
                      </a:lnTo>
                      <a:lnTo>
                        <a:pt x="397" y="131"/>
                      </a:lnTo>
                      <a:lnTo>
                        <a:pt x="361" y="124"/>
                      </a:lnTo>
                      <a:lnTo>
                        <a:pt x="323" y="117"/>
                      </a:lnTo>
                      <a:lnTo>
                        <a:pt x="297" y="110"/>
                      </a:lnTo>
                      <a:lnTo>
                        <a:pt x="277" y="96"/>
                      </a:lnTo>
                      <a:close/>
                    </a:path>
                  </a:pathLst>
                </a:cu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631" name="Text Box 24"/>
          <p:cNvSpPr/>
          <p:nvPr/>
        </p:nvSpPr>
        <p:spPr>
          <a:xfrm>
            <a:off x="1066680" y="246852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   girl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dance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AutoShape 25"/>
          <p:cNvSpPr/>
          <p:nvPr/>
        </p:nvSpPr>
        <p:spPr>
          <a:xfrm>
            <a:off x="4705200" y="936720"/>
            <a:ext cx="1417680" cy="1044360"/>
          </a:xfrm>
          <a:prstGeom prst="borderCallout1">
            <a:avLst>
              <a:gd name="adj1" fmla="val 18750"/>
              <a:gd name="adj2" fmla="val -8333"/>
              <a:gd name="adj3" fmla="val 164740"/>
              <a:gd name="adj4" fmla="val -36731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S on su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AutoShape 26"/>
          <p:cNvSpPr/>
          <p:nvPr/>
        </p:nvSpPr>
        <p:spPr>
          <a:xfrm>
            <a:off x="7391520" y="3743280"/>
            <a:ext cx="1447560" cy="1073160"/>
          </a:xfrm>
          <a:prstGeom prst="borderCallout1">
            <a:avLst>
              <a:gd name="adj1" fmla="val 18750"/>
              <a:gd name="adj2" fmla="val -8333"/>
              <a:gd name="adj3" fmla="val -63018"/>
              <a:gd name="adj4" fmla="val -100000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ound subjects joined by “an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here are two or more subjects joined by 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an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ubject must be plural, so the verb will not get an “s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boy and the gir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=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e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anc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6" name="Group 45"/>
          <p:cNvGrpSpPr/>
          <p:nvPr/>
        </p:nvGrpSpPr>
        <p:grpSpPr>
          <a:xfrm>
            <a:off x="6780240" y="4572000"/>
            <a:ext cx="1884240" cy="1849320"/>
            <a:chOff x="6780240" y="4572000"/>
            <a:chExt cx="1884240" cy="1849320"/>
          </a:xfrm>
        </p:grpSpPr>
        <p:sp>
          <p:nvSpPr>
            <p:cNvPr id="1637" name="Freeform 32"/>
            <p:cNvSpPr/>
            <p:nvPr/>
          </p:nvSpPr>
          <p:spPr>
            <a:xfrm>
              <a:off x="8356680" y="5842080"/>
              <a:ext cx="160200" cy="81000"/>
            </a:xfrm>
            <a:custGeom>
              <a:avLst/>
              <a:gdLst/>
              <a:ahLst/>
              <a:rect l="l" t="t" r="r" b="b"/>
              <a:pathLst>
                <a:path w="101" h="51">
                  <a:moveTo>
                    <a:pt x="13" y="2"/>
                  </a:moveTo>
                  <a:lnTo>
                    <a:pt x="76" y="22"/>
                  </a:lnTo>
                  <a:lnTo>
                    <a:pt x="95" y="33"/>
                  </a:lnTo>
                  <a:lnTo>
                    <a:pt x="101" y="40"/>
                  </a:lnTo>
                  <a:lnTo>
                    <a:pt x="100" y="47"/>
                  </a:lnTo>
                  <a:lnTo>
                    <a:pt x="95" y="51"/>
                  </a:lnTo>
                  <a:lnTo>
                    <a:pt x="92" y="51"/>
                  </a:lnTo>
                  <a:lnTo>
                    <a:pt x="86" y="47"/>
                  </a:lnTo>
                  <a:lnTo>
                    <a:pt x="72" y="42"/>
                  </a:lnTo>
                  <a:lnTo>
                    <a:pt x="49" y="31"/>
                  </a:lnTo>
                  <a:lnTo>
                    <a:pt x="0" y="4"/>
                  </a:lnTo>
                  <a:lnTo>
                    <a:pt x="3" y="0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38" name="Group 44"/>
            <p:cNvGrpSpPr/>
            <p:nvPr/>
          </p:nvGrpSpPr>
          <p:grpSpPr>
            <a:xfrm>
              <a:off x="6780240" y="4572000"/>
              <a:ext cx="1884240" cy="1849320"/>
              <a:chOff x="6780240" y="4572000"/>
              <a:chExt cx="1884240" cy="1849320"/>
            </a:xfrm>
          </p:grpSpPr>
          <p:grpSp>
            <p:nvGrpSpPr>
              <p:cNvPr id="1639" name="Group 43"/>
              <p:cNvGrpSpPr/>
              <p:nvPr/>
            </p:nvGrpSpPr>
            <p:grpSpPr>
              <a:xfrm>
                <a:off x="6780240" y="4572000"/>
                <a:ext cx="1884240" cy="1849320"/>
                <a:chOff x="6780240" y="4572000"/>
                <a:chExt cx="1884240" cy="1849320"/>
              </a:xfrm>
            </p:grpSpPr>
            <p:grpSp>
              <p:nvGrpSpPr>
                <p:cNvPr id="1640" name="Group 24"/>
                <p:cNvGrpSpPr/>
                <p:nvPr/>
              </p:nvGrpSpPr>
              <p:grpSpPr>
                <a:xfrm>
                  <a:off x="7299360" y="4572000"/>
                  <a:ext cx="1225440" cy="784080"/>
                  <a:chOff x="7299360" y="4572000"/>
                  <a:chExt cx="1225440" cy="784080"/>
                </a:xfrm>
              </p:grpSpPr>
              <p:sp>
                <p:nvSpPr>
                  <p:cNvPr id="1641" name="Freeform 12"/>
                  <p:cNvSpPr/>
                  <p:nvPr/>
                </p:nvSpPr>
                <p:spPr>
                  <a:xfrm>
                    <a:off x="7819920" y="4813200"/>
                    <a:ext cx="8280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3">
                        <a:moveTo>
                          <a:pt x="48" y="15"/>
                        </a:moveTo>
                        <a:lnTo>
                          <a:pt x="21" y="0"/>
                        </a:lnTo>
                        <a:lnTo>
                          <a:pt x="7" y="0"/>
                        </a:lnTo>
                        <a:lnTo>
                          <a:pt x="0" y="15"/>
                        </a:lnTo>
                        <a:lnTo>
                          <a:pt x="1" y="44"/>
                        </a:lnTo>
                        <a:lnTo>
                          <a:pt x="15" y="58"/>
                        </a:lnTo>
                        <a:lnTo>
                          <a:pt x="32" y="63"/>
                        </a:lnTo>
                        <a:lnTo>
                          <a:pt x="47" y="60"/>
                        </a:lnTo>
                        <a:lnTo>
                          <a:pt x="52" y="50"/>
                        </a:lnTo>
                        <a:lnTo>
                          <a:pt x="50" y="24"/>
                        </a:lnTo>
                        <a:lnTo>
                          <a:pt x="48" y="15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2" name="Freeform 13"/>
                  <p:cNvSpPr/>
                  <p:nvPr/>
                </p:nvSpPr>
                <p:spPr>
                  <a:xfrm>
                    <a:off x="7307280" y="4773600"/>
                    <a:ext cx="100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52">
                        <a:moveTo>
                          <a:pt x="14" y="11"/>
                        </a:moveTo>
                        <a:lnTo>
                          <a:pt x="33" y="4"/>
                        </a:lnTo>
                        <a:lnTo>
                          <a:pt x="53" y="0"/>
                        </a:lnTo>
                        <a:lnTo>
                          <a:pt x="63" y="21"/>
                        </a:lnTo>
                        <a:lnTo>
                          <a:pt x="52" y="45"/>
                        </a:lnTo>
                        <a:lnTo>
                          <a:pt x="41" y="51"/>
                        </a:lnTo>
                        <a:lnTo>
                          <a:pt x="15" y="52"/>
                        </a:lnTo>
                        <a:lnTo>
                          <a:pt x="12" y="52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3" name="Freeform 14"/>
                  <p:cNvSpPr/>
                  <p:nvPr/>
                </p:nvSpPr>
                <p:spPr>
                  <a:xfrm>
                    <a:off x="7473960" y="4778280"/>
                    <a:ext cx="1015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51">
                        <a:moveTo>
                          <a:pt x="14" y="11"/>
                        </a:moveTo>
                        <a:lnTo>
                          <a:pt x="33" y="5"/>
                        </a:lnTo>
                        <a:lnTo>
                          <a:pt x="54" y="0"/>
                        </a:lnTo>
                        <a:lnTo>
                          <a:pt x="64" y="21"/>
                        </a:lnTo>
                        <a:lnTo>
                          <a:pt x="52" y="44"/>
                        </a:lnTo>
                        <a:lnTo>
                          <a:pt x="41" y="50"/>
                        </a:lnTo>
                        <a:lnTo>
                          <a:pt x="15" y="51"/>
                        </a:lnTo>
                        <a:lnTo>
                          <a:pt x="12" y="51"/>
                        </a:lnTo>
                        <a:lnTo>
                          <a:pt x="0" y="41"/>
                        </a:lnTo>
                        <a:lnTo>
                          <a:pt x="0" y="27"/>
                        </a:lnTo>
                        <a:lnTo>
                          <a:pt x="14" y="11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644" name="Group 18"/>
                  <p:cNvGrpSpPr/>
                  <p:nvPr/>
                </p:nvGrpSpPr>
                <p:grpSpPr>
                  <a:xfrm>
                    <a:off x="7299360" y="4572000"/>
                    <a:ext cx="284040" cy="303120"/>
                    <a:chOff x="7299360" y="4572000"/>
                    <a:chExt cx="284040" cy="303120"/>
                  </a:xfrm>
                </p:grpSpPr>
                <p:sp>
                  <p:nvSpPr>
                    <p:cNvPr id="1645" name="Freeform 15"/>
                    <p:cNvSpPr/>
                    <p:nvPr/>
                  </p:nvSpPr>
                  <p:spPr>
                    <a:xfrm>
                      <a:off x="7299360" y="4767120"/>
                      <a:ext cx="12060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46" name="Freeform 16"/>
                    <p:cNvSpPr/>
                    <p:nvPr/>
                  </p:nvSpPr>
                  <p:spPr>
                    <a:xfrm>
                      <a:off x="7462800" y="4773600"/>
                      <a:ext cx="12060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" h="64">
                          <a:moveTo>
                            <a:pt x="44" y="1"/>
                          </a:moveTo>
                          <a:lnTo>
                            <a:pt x="30" y="3"/>
                          </a:lnTo>
                          <a:lnTo>
                            <a:pt x="16" y="9"/>
                          </a:lnTo>
                          <a:lnTo>
                            <a:pt x="5" y="19"/>
                          </a:lnTo>
                          <a:lnTo>
                            <a:pt x="0" y="34"/>
                          </a:lnTo>
                          <a:lnTo>
                            <a:pt x="2" y="46"/>
                          </a:lnTo>
                          <a:lnTo>
                            <a:pt x="11" y="59"/>
                          </a:lnTo>
                          <a:lnTo>
                            <a:pt x="21" y="63"/>
                          </a:lnTo>
                          <a:lnTo>
                            <a:pt x="36" y="64"/>
                          </a:lnTo>
                          <a:lnTo>
                            <a:pt x="51" y="62"/>
                          </a:lnTo>
                          <a:lnTo>
                            <a:pt x="62" y="59"/>
                          </a:lnTo>
                          <a:lnTo>
                            <a:pt x="66" y="49"/>
                          </a:lnTo>
                          <a:lnTo>
                            <a:pt x="72" y="41"/>
                          </a:lnTo>
                          <a:lnTo>
                            <a:pt x="76" y="30"/>
                          </a:lnTo>
                          <a:lnTo>
                            <a:pt x="73" y="21"/>
                          </a:lnTo>
                          <a:lnTo>
                            <a:pt x="64" y="20"/>
                          </a:lnTo>
                          <a:lnTo>
                            <a:pt x="58" y="35"/>
                          </a:lnTo>
                          <a:lnTo>
                            <a:pt x="58" y="38"/>
                          </a:lnTo>
                          <a:lnTo>
                            <a:pt x="52" y="46"/>
                          </a:lnTo>
                          <a:lnTo>
                            <a:pt x="34" y="49"/>
                          </a:lnTo>
                          <a:lnTo>
                            <a:pt x="31" y="50"/>
                          </a:lnTo>
                          <a:lnTo>
                            <a:pt x="21" y="48"/>
                          </a:lnTo>
                          <a:lnTo>
                            <a:pt x="13" y="41"/>
                          </a:lnTo>
                          <a:lnTo>
                            <a:pt x="14" y="34"/>
                          </a:lnTo>
                          <a:lnTo>
                            <a:pt x="19" y="24"/>
                          </a:lnTo>
                          <a:lnTo>
                            <a:pt x="30" y="18"/>
                          </a:lnTo>
                          <a:lnTo>
                            <a:pt x="44" y="12"/>
                          </a:lnTo>
                          <a:lnTo>
                            <a:pt x="58" y="10"/>
                          </a:lnTo>
                          <a:lnTo>
                            <a:pt x="64" y="7"/>
                          </a:lnTo>
                          <a:lnTo>
                            <a:pt x="58" y="1"/>
                          </a:lnTo>
                          <a:lnTo>
                            <a:pt x="49" y="0"/>
                          </a:lnTo>
                          <a:lnTo>
                            <a:pt x="44" y="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47" name="Freeform 17"/>
                    <p:cNvSpPr/>
                    <p:nvPr/>
                  </p:nvSpPr>
                  <p:spPr>
                    <a:xfrm>
                      <a:off x="7340760" y="4572000"/>
                      <a:ext cx="2412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164">
                          <a:moveTo>
                            <a:pt x="26" y="127"/>
                          </a:moveTo>
                          <a:lnTo>
                            <a:pt x="42" y="155"/>
                          </a:lnTo>
                          <a:lnTo>
                            <a:pt x="50" y="152"/>
                          </a:lnTo>
                          <a:lnTo>
                            <a:pt x="49" y="142"/>
                          </a:lnTo>
                          <a:lnTo>
                            <a:pt x="38" y="116"/>
                          </a:lnTo>
                          <a:lnTo>
                            <a:pt x="26" y="91"/>
                          </a:lnTo>
                          <a:lnTo>
                            <a:pt x="17" y="64"/>
                          </a:lnTo>
                          <a:lnTo>
                            <a:pt x="16" y="41"/>
                          </a:lnTo>
                          <a:lnTo>
                            <a:pt x="16" y="22"/>
                          </a:lnTo>
                          <a:lnTo>
                            <a:pt x="42" y="37"/>
                          </a:lnTo>
                          <a:lnTo>
                            <a:pt x="71" y="43"/>
                          </a:lnTo>
                          <a:lnTo>
                            <a:pt x="97" y="45"/>
                          </a:lnTo>
                          <a:lnTo>
                            <a:pt x="104" y="76"/>
                          </a:lnTo>
                          <a:lnTo>
                            <a:pt x="112" y="99"/>
                          </a:lnTo>
                          <a:lnTo>
                            <a:pt x="118" y="120"/>
                          </a:lnTo>
                          <a:lnTo>
                            <a:pt x="126" y="132"/>
                          </a:lnTo>
                          <a:lnTo>
                            <a:pt x="133" y="146"/>
                          </a:lnTo>
                          <a:lnTo>
                            <a:pt x="142" y="161"/>
                          </a:lnTo>
                          <a:lnTo>
                            <a:pt x="146" y="164"/>
                          </a:lnTo>
                          <a:lnTo>
                            <a:pt x="152" y="157"/>
                          </a:lnTo>
                          <a:lnTo>
                            <a:pt x="151" y="143"/>
                          </a:lnTo>
                          <a:lnTo>
                            <a:pt x="137" y="123"/>
                          </a:lnTo>
                          <a:lnTo>
                            <a:pt x="127" y="104"/>
                          </a:lnTo>
                          <a:lnTo>
                            <a:pt x="120" y="81"/>
                          </a:lnTo>
                          <a:lnTo>
                            <a:pt x="114" y="58"/>
                          </a:lnTo>
                          <a:lnTo>
                            <a:pt x="110" y="37"/>
                          </a:lnTo>
                          <a:lnTo>
                            <a:pt x="109" y="28"/>
                          </a:lnTo>
                          <a:lnTo>
                            <a:pt x="88" y="32"/>
                          </a:lnTo>
                          <a:lnTo>
                            <a:pt x="53" y="25"/>
                          </a:lnTo>
                          <a:lnTo>
                            <a:pt x="34" y="14"/>
                          </a:lnTo>
                          <a:lnTo>
                            <a:pt x="13" y="0"/>
                          </a:lnTo>
                          <a:lnTo>
                            <a:pt x="2" y="2"/>
                          </a:lnTo>
                          <a:lnTo>
                            <a:pt x="0" y="12"/>
                          </a:lnTo>
                          <a:lnTo>
                            <a:pt x="1" y="47"/>
                          </a:lnTo>
                          <a:lnTo>
                            <a:pt x="5" y="74"/>
                          </a:lnTo>
                          <a:lnTo>
                            <a:pt x="12" y="94"/>
                          </a:lnTo>
                          <a:lnTo>
                            <a:pt x="18" y="111"/>
                          </a:lnTo>
                          <a:lnTo>
                            <a:pt x="26" y="12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648" name="Group 21"/>
                  <p:cNvGrpSpPr/>
                  <p:nvPr/>
                </p:nvGrpSpPr>
                <p:grpSpPr>
                  <a:xfrm>
                    <a:off x="7808760" y="4616280"/>
                    <a:ext cx="203400" cy="306720"/>
                    <a:chOff x="7808760" y="4616280"/>
                    <a:chExt cx="203400" cy="306720"/>
                  </a:xfrm>
                </p:grpSpPr>
                <p:sp>
                  <p:nvSpPr>
                    <p:cNvPr id="1649" name="Freeform 19"/>
                    <p:cNvSpPr/>
                    <p:nvPr/>
                  </p:nvSpPr>
                  <p:spPr>
                    <a:xfrm>
                      <a:off x="7808760" y="4799160"/>
                      <a:ext cx="98640" cy="12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" h="78">
                          <a:moveTo>
                            <a:pt x="59" y="24"/>
                          </a:moveTo>
                          <a:lnTo>
                            <a:pt x="47" y="12"/>
                          </a:lnTo>
                          <a:lnTo>
                            <a:pt x="30" y="2"/>
                          </a:lnTo>
                          <a:lnTo>
                            <a:pt x="15" y="0"/>
                          </a:lnTo>
                          <a:lnTo>
                            <a:pt x="3" y="11"/>
                          </a:lnTo>
                          <a:lnTo>
                            <a:pt x="0" y="30"/>
                          </a:lnTo>
                          <a:lnTo>
                            <a:pt x="1" y="48"/>
                          </a:lnTo>
                          <a:lnTo>
                            <a:pt x="5" y="62"/>
                          </a:lnTo>
                          <a:lnTo>
                            <a:pt x="19" y="74"/>
                          </a:lnTo>
                          <a:lnTo>
                            <a:pt x="35" y="78"/>
                          </a:lnTo>
                          <a:lnTo>
                            <a:pt x="51" y="77"/>
                          </a:lnTo>
                          <a:lnTo>
                            <a:pt x="57" y="73"/>
                          </a:lnTo>
                          <a:lnTo>
                            <a:pt x="62" y="63"/>
                          </a:lnTo>
                          <a:lnTo>
                            <a:pt x="57" y="57"/>
                          </a:lnTo>
                          <a:lnTo>
                            <a:pt x="48" y="63"/>
                          </a:lnTo>
                          <a:lnTo>
                            <a:pt x="37" y="64"/>
                          </a:lnTo>
                          <a:lnTo>
                            <a:pt x="34" y="65"/>
                          </a:lnTo>
                          <a:lnTo>
                            <a:pt x="23" y="59"/>
                          </a:lnTo>
                          <a:lnTo>
                            <a:pt x="15" y="51"/>
                          </a:lnTo>
                          <a:lnTo>
                            <a:pt x="14" y="38"/>
                          </a:lnTo>
                          <a:lnTo>
                            <a:pt x="14" y="25"/>
                          </a:lnTo>
                          <a:lnTo>
                            <a:pt x="16" y="15"/>
                          </a:lnTo>
                          <a:lnTo>
                            <a:pt x="25" y="12"/>
                          </a:lnTo>
                          <a:lnTo>
                            <a:pt x="39" y="21"/>
                          </a:lnTo>
                          <a:lnTo>
                            <a:pt x="54" y="33"/>
                          </a:lnTo>
                          <a:lnTo>
                            <a:pt x="60" y="40"/>
                          </a:lnTo>
                          <a:lnTo>
                            <a:pt x="59" y="24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0" name="Freeform 20"/>
                    <p:cNvSpPr/>
                    <p:nvPr/>
                  </p:nvSpPr>
                  <p:spPr>
                    <a:xfrm>
                      <a:off x="7886880" y="4616280"/>
                      <a:ext cx="125280" cy="29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83">
                          <a:moveTo>
                            <a:pt x="3" y="183"/>
                          </a:moveTo>
                          <a:lnTo>
                            <a:pt x="1" y="132"/>
                          </a:lnTo>
                          <a:lnTo>
                            <a:pt x="1" y="83"/>
                          </a:lnTo>
                          <a:lnTo>
                            <a:pt x="0" y="79"/>
                          </a:lnTo>
                          <a:lnTo>
                            <a:pt x="1" y="37"/>
                          </a:lnTo>
                          <a:lnTo>
                            <a:pt x="1" y="34"/>
                          </a:lnTo>
                          <a:lnTo>
                            <a:pt x="6" y="14"/>
                          </a:lnTo>
                          <a:lnTo>
                            <a:pt x="18" y="0"/>
                          </a:lnTo>
                          <a:lnTo>
                            <a:pt x="27" y="19"/>
                          </a:lnTo>
                          <a:lnTo>
                            <a:pt x="47" y="42"/>
                          </a:lnTo>
                          <a:lnTo>
                            <a:pt x="79" y="57"/>
                          </a:lnTo>
                          <a:lnTo>
                            <a:pt x="61" y="65"/>
                          </a:lnTo>
                          <a:lnTo>
                            <a:pt x="43" y="60"/>
                          </a:lnTo>
                          <a:lnTo>
                            <a:pt x="29" y="51"/>
                          </a:lnTo>
                          <a:lnTo>
                            <a:pt x="26" y="50"/>
                          </a:lnTo>
                          <a:lnTo>
                            <a:pt x="15" y="42"/>
                          </a:lnTo>
                          <a:lnTo>
                            <a:pt x="15" y="75"/>
                          </a:lnTo>
                          <a:lnTo>
                            <a:pt x="14" y="110"/>
                          </a:lnTo>
                          <a:lnTo>
                            <a:pt x="13" y="144"/>
                          </a:lnTo>
                          <a:lnTo>
                            <a:pt x="12" y="175"/>
                          </a:lnTo>
                          <a:lnTo>
                            <a:pt x="9" y="183"/>
                          </a:lnTo>
                          <a:lnTo>
                            <a:pt x="3" y="18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651" name="Freeform 22"/>
                  <p:cNvSpPr/>
                  <p:nvPr/>
                </p:nvSpPr>
                <p:spPr>
                  <a:xfrm>
                    <a:off x="8099280" y="4834080"/>
                    <a:ext cx="22716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3" h="166">
                        <a:moveTo>
                          <a:pt x="84" y="6"/>
                        </a:moveTo>
                        <a:lnTo>
                          <a:pt x="92" y="0"/>
                        </a:lnTo>
                        <a:lnTo>
                          <a:pt x="98" y="5"/>
                        </a:lnTo>
                        <a:lnTo>
                          <a:pt x="110" y="33"/>
                        </a:lnTo>
                        <a:lnTo>
                          <a:pt x="128" y="57"/>
                        </a:lnTo>
                        <a:lnTo>
                          <a:pt x="143" y="72"/>
                        </a:lnTo>
                        <a:lnTo>
                          <a:pt x="130" y="75"/>
                        </a:lnTo>
                        <a:lnTo>
                          <a:pt x="113" y="71"/>
                        </a:lnTo>
                        <a:lnTo>
                          <a:pt x="97" y="58"/>
                        </a:lnTo>
                        <a:lnTo>
                          <a:pt x="91" y="94"/>
                        </a:lnTo>
                        <a:lnTo>
                          <a:pt x="82" y="128"/>
                        </a:lnTo>
                        <a:lnTo>
                          <a:pt x="72" y="151"/>
                        </a:lnTo>
                        <a:lnTo>
                          <a:pt x="69" y="153"/>
                        </a:lnTo>
                        <a:lnTo>
                          <a:pt x="58" y="165"/>
                        </a:lnTo>
                        <a:lnTo>
                          <a:pt x="47" y="166"/>
                        </a:lnTo>
                        <a:lnTo>
                          <a:pt x="32" y="161"/>
                        </a:lnTo>
                        <a:lnTo>
                          <a:pt x="14" y="147"/>
                        </a:lnTo>
                        <a:lnTo>
                          <a:pt x="5" y="134"/>
                        </a:lnTo>
                        <a:lnTo>
                          <a:pt x="0" y="123"/>
                        </a:lnTo>
                        <a:lnTo>
                          <a:pt x="1" y="107"/>
                        </a:lnTo>
                        <a:lnTo>
                          <a:pt x="7" y="94"/>
                        </a:lnTo>
                        <a:lnTo>
                          <a:pt x="18" y="90"/>
                        </a:lnTo>
                        <a:lnTo>
                          <a:pt x="22" y="90"/>
                        </a:lnTo>
                        <a:lnTo>
                          <a:pt x="32" y="93"/>
                        </a:lnTo>
                        <a:lnTo>
                          <a:pt x="35" y="95"/>
                        </a:lnTo>
                        <a:lnTo>
                          <a:pt x="47" y="103"/>
                        </a:lnTo>
                        <a:lnTo>
                          <a:pt x="59" y="116"/>
                        </a:lnTo>
                        <a:lnTo>
                          <a:pt x="65" y="128"/>
                        </a:lnTo>
                        <a:lnTo>
                          <a:pt x="71" y="116"/>
                        </a:lnTo>
                        <a:lnTo>
                          <a:pt x="77" y="92"/>
                        </a:lnTo>
                        <a:lnTo>
                          <a:pt x="83" y="68"/>
                        </a:lnTo>
                        <a:lnTo>
                          <a:pt x="85" y="47"/>
                        </a:lnTo>
                        <a:lnTo>
                          <a:pt x="86" y="22"/>
                        </a:lnTo>
                        <a:lnTo>
                          <a:pt x="84" y="6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2" name="Freeform 23"/>
                  <p:cNvSpPr/>
                  <p:nvPr/>
                </p:nvSpPr>
                <p:spPr>
                  <a:xfrm>
                    <a:off x="8370720" y="5118120"/>
                    <a:ext cx="1540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50">
                        <a:moveTo>
                          <a:pt x="75" y="9"/>
                        </a:moveTo>
                        <a:lnTo>
                          <a:pt x="81" y="45"/>
                        </a:lnTo>
                        <a:lnTo>
                          <a:pt x="82" y="76"/>
                        </a:lnTo>
                        <a:lnTo>
                          <a:pt x="78" y="101"/>
                        </a:lnTo>
                        <a:lnTo>
                          <a:pt x="68" y="115"/>
                        </a:lnTo>
                        <a:lnTo>
                          <a:pt x="56" y="101"/>
                        </a:lnTo>
                        <a:lnTo>
                          <a:pt x="40" y="93"/>
                        </a:lnTo>
                        <a:lnTo>
                          <a:pt x="25" y="88"/>
                        </a:lnTo>
                        <a:lnTo>
                          <a:pt x="13" y="88"/>
                        </a:lnTo>
                        <a:lnTo>
                          <a:pt x="6" y="92"/>
                        </a:lnTo>
                        <a:lnTo>
                          <a:pt x="1" y="102"/>
                        </a:lnTo>
                        <a:lnTo>
                          <a:pt x="1" y="105"/>
                        </a:lnTo>
                        <a:lnTo>
                          <a:pt x="0" y="115"/>
                        </a:lnTo>
                        <a:lnTo>
                          <a:pt x="1" y="119"/>
                        </a:lnTo>
                        <a:lnTo>
                          <a:pt x="4" y="129"/>
                        </a:lnTo>
                        <a:lnTo>
                          <a:pt x="15" y="140"/>
                        </a:lnTo>
                        <a:lnTo>
                          <a:pt x="29" y="148"/>
                        </a:lnTo>
                        <a:lnTo>
                          <a:pt x="48" y="150"/>
                        </a:lnTo>
                        <a:lnTo>
                          <a:pt x="65" y="149"/>
                        </a:lnTo>
                        <a:lnTo>
                          <a:pt x="74" y="144"/>
                        </a:lnTo>
                        <a:lnTo>
                          <a:pt x="84" y="128"/>
                        </a:lnTo>
                        <a:lnTo>
                          <a:pt x="91" y="110"/>
                        </a:lnTo>
                        <a:lnTo>
                          <a:pt x="95" y="87"/>
                        </a:lnTo>
                        <a:lnTo>
                          <a:pt x="97" y="69"/>
                        </a:lnTo>
                        <a:lnTo>
                          <a:pt x="95" y="46"/>
                        </a:lnTo>
                        <a:lnTo>
                          <a:pt x="93" y="22"/>
                        </a:lnTo>
                        <a:lnTo>
                          <a:pt x="88" y="2"/>
                        </a:lnTo>
                        <a:lnTo>
                          <a:pt x="80" y="0"/>
                        </a:lnTo>
                        <a:lnTo>
                          <a:pt x="73" y="5"/>
                        </a:lnTo>
                        <a:lnTo>
                          <a:pt x="75" y="9"/>
                        </a:lnTo>
                        <a:close/>
                      </a:path>
                    </a:pathLst>
                  </a:cu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53" name="Group 42"/>
                <p:cNvGrpSpPr/>
                <p:nvPr/>
              </p:nvGrpSpPr>
              <p:grpSpPr>
                <a:xfrm>
                  <a:off x="6780240" y="4976640"/>
                  <a:ext cx="1884240" cy="1444680"/>
                  <a:chOff x="6780240" y="4976640"/>
                  <a:chExt cx="1884240" cy="1444680"/>
                </a:xfrm>
              </p:grpSpPr>
              <p:grpSp>
                <p:nvGrpSpPr>
                  <p:cNvPr id="1654" name="Group 11"/>
                  <p:cNvGrpSpPr/>
                  <p:nvPr/>
                </p:nvGrpSpPr>
                <p:grpSpPr>
                  <a:xfrm>
                    <a:off x="6780240" y="4976640"/>
                    <a:ext cx="1074600" cy="1349640"/>
                    <a:chOff x="6780240" y="4976640"/>
                    <a:chExt cx="1074600" cy="1349640"/>
                  </a:xfrm>
                </p:grpSpPr>
                <p:sp>
                  <p:nvSpPr>
                    <p:cNvPr id="1655" name="Freeform 5"/>
                    <p:cNvSpPr/>
                    <p:nvPr/>
                  </p:nvSpPr>
                  <p:spPr>
                    <a:xfrm>
                      <a:off x="7153200" y="5049720"/>
                      <a:ext cx="263520" cy="25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62">
                          <a:moveTo>
                            <a:pt x="108" y="37"/>
                          </a:moveTo>
                          <a:lnTo>
                            <a:pt x="96" y="20"/>
                          </a:lnTo>
                          <a:lnTo>
                            <a:pt x="88" y="12"/>
                          </a:lnTo>
                          <a:lnTo>
                            <a:pt x="75" y="4"/>
                          </a:lnTo>
                          <a:lnTo>
                            <a:pt x="62" y="1"/>
                          </a:lnTo>
                          <a:lnTo>
                            <a:pt x="48" y="0"/>
                          </a:lnTo>
                          <a:lnTo>
                            <a:pt x="35" y="3"/>
                          </a:lnTo>
                          <a:lnTo>
                            <a:pt x="23" y="11"/>
                          </a:lnTo>
                          <a:lnTo>
                            <a:pt x="12" y="24"/>
                          </a:lnTo>
                          <a:lnTo>
                            <a:pt x="4" y="40"/>
                          </a:lnTo>
                          <a:lnTo>
                            <a:pt x="0" y="60"/>
                          </a:lnTo>
                          <a:lnTo>
                            <a:pt x="0" y="76"/>
                          </a:lnTo>
                          <a:lnTo>
                            <a:pt x="0" y="92"/>
                          </a:lnTo>
                          <a:lnTo>
                            <a:pt x="6" y="107"/>
                          </a:lnTo>
                          <a:lnTo>
                            <a:pt x="14" y="120"/>
                          </a:lnTo>
                          <a:lnTo>
                            <a:pt x="26" y="135"/>
                          </a:lnTo>
                          <a:lnTo>
                            <a:pt x="41" y="146"/>
                          </a:lnTo>
                          <a:lnTo>
                            <a:pt x="56" y="155"/>
                          </a:lnTo>
                          <a:lnTo>
                            <a:pt x="73" y="160"/>
                          </a:lnTo>
                          <a:lnTo>
                            <a:pt x="88" y="162"/>
                          </a:lnTo>
                          <a:lnTo>
                            <a:pt x="100" y="159"/>
                          </a:lnTo>
                          <a:lnTo>
                            <a:pt x="110" y="153"/>
                          </a:lnTo>
                          <a:lnTo>
                            <a:pt x="119" y="143"/>
                          </a:lnTo>
                          <a:lnTo>
                            <a:pt x="127" y="128"/>
                          </a:lnTo>
                          <a:lnTo>
                            <a:pt x="131" y="114"/>
                          </a:lnTo>
                          <a:lnTo>
                            <a:pt x="131" y="98"/>
                          </a:lnTo>
                          <a:lnTo>
                            <a:pt x="130" y="83"/>
                          </a:lnTo>
                          <a:lnTo>
                            <a:pt x="126" y="69"/>
                          </a:lnTo>
                          <a:lnTo>
                            <a:pt x="121" y="55"/>
                          </a:lnTo>
                          <a:lnTo>
                            <a:pt x="140" y="43"/>
                          </a:lnTo>
                          <a:lnTo>
                            <a:pt x="155" y="37"/>
                          </a:lnTo>
                          <a:lnTo>
                            <a:pt x="162" y="29"/>
                          </a:lnTo>
                          <a:lnTo>
                            <a:pt x="166" y="18"/>
                          </a:lnTo>
                          <a:lnTo>
                            <a:pt x="163" y="9"/>
                          </a:lnTo>
                          <a:lnTo>
                            <a:pt x="155" y="7"/>
                          </a:lnTo>
                          <a:lnTo>
                            <a:pt x="147" y="6"/>
                          </a:lnTo>
                          <a:lnTo>
                            <a:pt x="139" y="11"/>
                          </a:lnTo>
                          <a:lnTo>
                            <a:pt x="131" y="17"/>
                          </a:lnTo>
                          <a:lnTo>
                            <a:pt x="122" y="28"/>
                          </a:lnTo>
                          <a:lnTo>
                            <a:pt x="108" y="37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6" name="Freeform 6"/>
                    <p:cNvSpPr/>
                    <p:nvPr/>
                  </p:nvSpPr>
                  <p:spPr>
                    <a:xfrm>
                      <a:off x="7280280" y="5335560"/>
                      <a:ext cx="223920" cy="35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1" h="226">
                          <a:moveTo>
                            <a:pt x="12" y="18"/>
                          </a:moveTo>
                          <a:lnTo>
                            <a:pt x="22" y="8"/>
                          </a:lnTo>
                          <a:lnTo>
                            <a:pt x="35" y="2"/>
                          </a:lnTo>
                          <a:lnTo>
                            <a:pt x="54" y="0"/>
                          </a:lnTo>
                          <a:lnTo>
                            <a:pt x="70" y="3"/>
                          </a:lnTo>
                          <a:lnTo>
                            <a:pt x="86" y="8"/>
                          </a:lnTo>
                          <a:lnTo>
                            <a:pt x="101" y="18"/>
                          </a:lnTo>
                          <a:lnTo>
                            <a:pt x="112" y="31"/>
                          </a:lnTo>
                          <a:lnTo>
                            <a:pt x="122" y="47"/>
                          </a:lnTo>
                          <a:lnTo>
                            <a:pt x="128" y="63"/>
                          </a:lnTo>
                          <a:lnTo>
                            <a:pt x="135" y="87"/>
                          </a:lnTo>
                          <a:lnTo>
                            <a:pt x="138" y="107"/>
                          </a:lnTo>
                          <a:lnTo>
                            <a:pt x="140" y="123"/>
                          </a:lnTo>
                          <a:lnTo>
                            <a:pt x="141" y="143"/>
                          </a:lnTo>
                          <a:lnTo>
                            <a:pt x="141" y="158"/>
                          </a:lnTo>
                          <a:lnTo>
                            <a:pt x="136" y="176"/>
                          </a:lnTo>
                          <a:lnTo>
                            <a:pt x="131" y="194"/>
                          </a:lnTo>
                          <a:lnTo>
                            <a:pt x="122" y="206"/>
                          </a:lnTo>
                          <a:lnTo>
                            <a:pt x="109" y="214"/>
                          </a:lnTo>
                          <a:lnTo>
                            <a:pt x="97" y="222"/>
                          </a:lnTo>
                          <a:lnTo>
                            <a:pt x="77" y="226"/>
                          </a:lnTo>
                          <a:lnTo>
                            <a:pt x="60" y="226"/>
                          </a:lnTo>
                          <a:lnTo>
                            <a:pt x="44" y="224"/>
                          </a:lnTo>
                          <a:lnTo>
                            <a:pt x="32" y="218"/>
                          </a:lnTo>
                          <a:lnTo>
                            <a:pt x="21" y="210"/>
                          </a:lnTo>
                          <a:lnTo>
                            <a:pt x="17" y="202"/>
                          </a:lnTo>
                          <a:lnTo>
                            <a:pt x="11" y="189"/>
                          </a:lnTo>
                          <a:lnTo>
                            <a:pt x="11" y="175"/>
                          </a:lnTo>
                          <a:lnTo>
                            <a:pt x="12" y="160"/>
                          </a:lnTo>
                          <a:lnTo>
                            <a:pt x="15" y="148"/>
                          </a:lnTo>
                          <a:lnTo>
                            <a:pt x="19" y="139"/>
                          </a:lnTo>
                          <a:lnTo>
                            <a:pt x="26" y="131"/>
                          </a:lnTo>
                          <a:lnTo>
                            <a:pt x="32" y="121"/>
                          </a:lnTo>
                          <a:lnTo>
                            <a:pt x="33" y="108"/>
                          </a:lnTo>
                          <a:lnTo>
                            <a:pt x="26" y="100"/>
                          </a:lnTo>
                          <a:lnTo>
                            <a:pt x="13" y="91"/>
                          </a:lnTo>
                          <a:lnTo>
                            <a:pt x="7" y="81"/>
                          </a:lnTo>
                          <a:lnTo>
                            <a:pt x="0" y="69"/>
                          </a:lnTo>
                          <a:lnTo>
                            <a:pt x="0" y="54"/>
                          </a:lnTo>
                          <a:lnTo>
                            <a:pt x="2" y="44"/>
                          </a:lnTo>
                          <a:lnTo>
                            <a:pt x="4" y="31"/>
                          </a:lnTo>
                          <a:lnTo>
                            <a:pt x="9" y="23"/>
                          </a:lnTo>
                          <a:lnTo>
                            <a:pt x="12" y="1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7" name="Freeform 7"/>
                    <p:cNvSpPr/>
                    <p:nvPr/>
                  </p:nvSpPr>
                  <p:spPr>
                    <a:xfrm>
                      <a:off x="7361280" y="5157720"/>
                      <a:ext cx="493560" cy="30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" h="195">
                          <a:moveTo>
                            <a:pt x="19" y="122"/>
                          </a:moveTo>
                          <a:lnTo>
                            <a:pt x="7" y="126"/>
                          </a:lnTo>
                          <a:lnTo>
                            <a:pt x="0" y="136"/>
                          </a:lnTo>
                          <a:lnTo>
                            <a:pt x="2" y="148"/>
                          </a:lnTo>
                          <a:lnTo>
                            <a:pt x="11" y="164"/>
                          </a:lnTo>
                          <a:lnTo>
                            <a:pt x="27" y="170"/>
                          </a:lnTo>
                          <a:lnTo>
                            <a:pt x="46" y="162"/>
                          </a:lnTo>
                          <a:lnTo>
                            <a:pt x="60" y="154"/>
                          </a:lnTo>
                          <a:lnTo>
                            <a:pt x="80" y="148"/>
                          </a:lnTo>
                          <a:lnTo>
                            <a:pt x="106" y="146"/>
                          </a:lnTo>
                          <a:lnTo>
                            <a:pt x="133" y="148"/>
                          </a:lnTo>
                          <a:lnTo>
                            <a:pt x="161" y="159"/>
                          </a:lnTo>
                          <a:lnTo>
                            <a:pt x="181" y="170"/>
                          </a:lnTo>
                          <a:lnTo>
                            <a:pt x="196" y="185"/>
                          </a:lnTo>
                          <a:lnTo>
                            <a:pt x="202" y="191"/>
                          </a:lnTo>
                          <a:lnTo>
                            <a:pt x="215" y="195"/>
                          </a:lnTo>
                          <a:lnTo>
                            <a:pt x="222" y="192"/>
                          </a:lnTo>
                          <a:lnTo>
                            <a:pt x="228" y="186"/>
                          </a:lnTo>
                          <a:lnTo>
                            <a:pt x="233" y="180"/>
                          </a:lnTo>
                          <a:lnTo>
                            <a:pt x="242" y="169"/>
                          </a:lnTo>
                          <a:lnTo>
                            <a:pt x="252" y="149"/>
                          </a:lnTo>
                          <a:lnTo>
                            <a:pt x="260" y="128"/>
                          </a:lnTo>
                          <a:lnTo>
                            <a:pt x="265" y="107"/>
                          </a:lnTo>
                          <a:lnTo>
                            <a:pt x="268" y="92"/>
                          </a:lnTo>
                          <a:lnTo>
                            <a:pt x="271" y="72"/>
                          </a:lnTo>
                          <a:lnTo>
                            <a:pt x="268" y="63"/>
                          </a:lnTo>
                          <a:lnTo>
                            <a:pt x="272" y="55"/>
                          </a:lnTo>
                          <a:lnTo>
                            <a:pt x="281" y="51"/>
                          </a:lnTo>
                          <a:lnTo>
                            <a:pt x="293" y="52"/>
                          </a:lnTo>
                          <a:lnTo>
                            <a:pt x="304" y="51"/>
                          </a:lnTo>
                          <a:lnTo>
                            <a:pt x="311" y="45"/>
                          </a:lnTo>
                          <a:lnTo>
                            <a:pt x="309" y="37"/>
                          </a:lnTo>
                          <a:lnTo>
                            <a:pt x="301" y="34"/>
                          </a:lnTo>
                          <a:lnTo>
                            <a:pt x="289" y="36"/>
                          </a:lnTo>
                          <a:lnTo>
                            <a:pt x="279" y="39"/>
                          </a:lnTo>
                          <a:lnTo>
                            <a:pt x="274" y="39"/>
                          </a:lnTo>
                          <a:lnTo>
                            <a:pt x="273" y="35"/>
                          </a:lnTo>
                          <a:lnTo>
                            <a:pt x="280" y="26"/>
                          </a:lnTo>
                          <a:lnTo>
                            <a:pt x="286" y="19"/>
                          </a:lnTo>
                          <a:lnTo>
                            <a:pt x="287" y="10"/>
                          </a:lnTo>
                          <a:lnTo>
                            <a:pt x="286" y="4"/>
                          </a:lnTo>
                          <a:lnTo>
                            <a:pt x="279" y="0"/>
                          </a:lnTo>
                          <a:lnTo>
                            <a:pt x="271" y="4"/>
                          </a:lnTo>
                          <a:lnTo>
                            <a:pt x="266" y="15"/>
                          </a:lnTo>
                          <a:lnTo>
                            <a:pt x="264" y="29"/>
                          </a:lnTo>
                          <a:lnTo>
                            <a:pt x="260" y="36"/>
                          </a:lnTo>
                          <a:lnTo>
                            <a:pt x="252" y="37"/>
                          </a:lnTo>
                          <a:lnTo>
                            <a:pt x="238" y="31"/>
                          </a:lnTo>
                          <a:lnTo>
                            <a:pt x="228" y="28"/>
                          </a:lnTo>
                          <a:lnTo>
                            <a:pt x="220" y="33"/>
                          </a:lnTo>
                          <a:lnTo>
                            <a:pt x="218" y="44"/>
                          </a:lnTo>
                          <a:lnTo>
                            <a:pt x="224" y="49"/>
                          </a:lnTo>
                          <a:lnTo>
                            <a:pt x="235" y="51"/>
                          </a:lnTo>
                          <a:lnTo>
                            <a:pt x="246" y="52"/>
                          </a:lnTo>
                          <a:lnTo>
                            <a:pt x="255" y="55"/>
                          </a:lnTo>
                          <a:lnTo>
                            <a:pt x="256" y="66"/>
                          </a:lnTo>
                          <a:lnTo>
                            <a:pt x="252" y="86"/>
                          </a:lnTo>
                          <a:lnTo>
                            <a:pt x="244" y="105"/>
                          </a:lnTo>
                          <a:lnTo>
                            <a:pt x="233" y="125"/>
                          </a:lnTo>
                          <a:lnTo>
                            <a:pt x="221" y="140"/>
                          </a:lnTo>
                          <a:lnTo>
                            <a:pt x="212" y="148"/>
                          </a:lnTo>
                          <a:lnTo>
                            <a:pt x="200" y="148"/>
                          </a:lnTo>
                          <a:lnTo>
                            <a:pt x="178" y="134"/>
                          </a:lnTo>
                          <a:lnTo>
                            <a:pt x="154" y="125"/>
                          </a:lnTo>
                          <a:lnTo>
                            <a:pt x="128" y="117"/>
                          </a:lnTo>
                          <a:lnTo>
                            <a:pt x="99" y="115"/>
                          </a:lnTo>
                          <a:lnTo>
                            <a:pt x="71" y="114"/>
                          </a:lnTo>
                          <a:lnTo>
                            <a:pt x="45" y="115"/>
                          </a:lnTo>
                          <a:lnTo>
                            <a:pt x="28" y="120"/>
                          </a:lnTo>
                          <a:lnTo>
                            <a:pt x="19" y="122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8" name="Freeform 8"/>
                    <p:cNvSpPr/>
                    <p:nvPr/>
                  </p:nvSpPr>
                  <p:spPr>
                    <a:xfrm>
                      <a:off x="6780240" y="4976640"/>
                      <a:ext cx="547560" cy="4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306">
                          <a:moveTo>
                            <a:pt x="263" y="231"/>
                          </a:moveTo>
                          <a:lnTo>
                            <a:pt x="307" y="242"/>
                          </a:lnTo>
                          <a:lnTo>
                            <a:pt x="333" y="252"/>
                          </a:lnTo>
                          <a:lnTo>
                            <a:pt x="345" y="266"/>
                          </a:lnTo>
                          <a:lnTo>
                            <a:pt x="345" y="282"/>
                          </a:lnTo>
                          <a:lnTo>
                            <a:pt x="339" y="295"/>
                          </a:lnTo>
                          <a:lnTo>
                            <a:pt x="326" y="306"/>
                          </a:lnTo>
                          <a:lnTo>
                            <a:pt x="300" y="296"/>
                          </a:lnTo>
                          <a:lnTo>
                            <a:pt x="268" y="275"/>
                          </a:lnTo>
                          <a:lnTo>
                            <a:pt x="235" y="257"/>
                          </a:lnTo>
                          <a:lnTo>
                            <a:pt x="206" y="246"/>
                          </a:lnTo>
                          <a:lnTo>
                            <a:pt x="176" y="241"/>
                          </a:lnTo>
                          <a:lnTo>
                            <a:pt x="157" y="237"/>
                          </a:lnTo>
                          <a:lnTo>
                            <a:pt x="145" y="236"/>
                          </a:lnTo>
                          <a:lnTo>
                            <a:pt x="142" y="237"/>
                          </a:lnTo>
                          <a:lnTo>
                            <a:pt x="135" y="236"/>
                          </a:lnTo>
                          <a:lnTo>
                            <a:pt x="129" y="230"/>
                          </a:lnTo>
                          <a:lnTo>
                            <a:pt x="122" y="221"/>
                          </a:lnTo>
                          <a:lnTo>
                            <a:pt x="118" y="207"/>
                          </a:lnTo>
                          <a:lnTo>
                            <a:pt x="112" y="185"/>
                          </a:lnTo>
                          <a:lnTo>
                            <a:pt x="104" y="162"/>
                          </a:lnTo>
                          <a:lnTo>
                            <a:pt x="96" y="141"/>
                          </a:lnTo>
                          <a:lnTo>
                            <a:pt x="83" y="123"/>
                          </a:lnTo>
                          <a:lnTo>
                            <a:pt x="72" y="108"/>
                          </a:lnTo>
                          <a:lnTo>
                            <a:pt x="60" y="97"/>
                          </a:lnTo>
                          <a:lnTo>
                            <a:pt x="51" y="93"/>
                          </a:lnTo>
                          <a:lnTo>
                            <a:pt x="39" y="90"/>
                          </a:lnTo>
                          <a:lnTo>
                            <a:pt x="24" y="90"/>
                          </a:lnTo>
                          <a:lnTo>
                            <a:pt x="10" y="86"/>
                          </a:lnTo>
                          <a:lnTo>
                            <a:pt x="0" y="75"/>
                          </a:lnTo>
                          <a:lnTo>
                            <a:pt x="0" y="64"/>
                          </a:lnTo>
                          <a:lnTo>
                            <a:pt x="6" y="53"/>
                          </a:lnTo>
                          <a:lnTo>
                            <a:pt x="17" y="50"/>
                          </a:lnTo>
                          <a:lnTo>
                            <a:pt x="21" y="57"/>
                          </a:lnTo>
                          <a:lnTo>
                            <a:pt x="20" y="60"/>
                          </a:lnTo>
                          <a:lnTo>
                            <a:pt x="20" y="67"/>
                          </a:lnTo>
                          <a:lnTo>
                            <a:pt x="28" y="73"/>
                          </a:lnTo>
                          <a:lnTo>
                            <a:pt x="41" y="74"/>
                          </a:lnTo>
                          <a:lnTo>
                            <a:pt x="51" y="65"/>
                          </a:lnTo>
                          <a:lnTo>
                            <a:pt x="52" y="50"/>
                          </a:lnTo>
                          <a:lnTo>
                            <a:pt x="46" y="41"/>
                          </a:lnTo>
                          <a:lnTo>
                            <a:pt x="38" y="42"/>
                          </a:lnTo>
                          <a:lnTo>
                            <a:pt x="31" y="48"/>
                          </a:lnTo>
                          <a:lnTo>
                            <a:pt x="25" y="47"/>
                          </a:lnTo>
                          <a:lnTo>
                            <a:pt x="20" y="38"/>
                          </a:lnTo>
                          <a:lnTo>
                            <a:pt x="25" y="33"/>
                          </a:lnTo>
                          <a:lnTo>
                            <a:pt x="31" y="26"/>
                          </a:lnTo>
                          <a:lnTo>
                            <a:pt x="42" y="24"/>
                          </a:lnTo>
                          <a:lnTo>
                            <a:pt x="51" y="26"/>
                          </a:lnTo>
                          <a:lnTo>
                            <a:pt x="62" y="31"/>
                          </a:lnTo>
                          <a:lnTo>
                            <a:pt x="61" y="23"/>
                          </a:lnTo>
                          <a:lnTo>
                            <a:pt x="63" y="9"/>
                          </a:lnTo>
                          <a:lnTo>
                            <a:pt x="73" y="0"/>
                          </a:lnTo>
                          <a:lnTo>
                            <a:pt x="86" y="3"/>
                          </a:lnTo>
                          <a:lnTo>
                            <a:pt x="86" y="13"/>
                          </a:lnTo>
                          <a:lnTo>
                            <a:pt x="85" y="16"/>
                          </a:lnTo>
                          <a:lnTo>
                            <a:pt x="81" y="26"/>
                          </a:lnTo>
                          <a:lnTo>
                            <a:pt x="78" y="28"/>
                          </a:lnTo>
                          <a:lnTo>
                            <a:pt x="74" y="38"/>
                          </a:lnTo>
                          <a:lnTo>
                            <a:pt x="72" y="41"/>
                          </a:lnTo>
                          <a:lnTo>
                            <a:pt x="73" y="57"/>
                          </a:lnTo>
                          <a:lnTo>
                            <a:pt x="71" y="71"/>
                          </a:lnTo>
                          <a:lnTo>
                            <a:pt x="71" y="74"/>
                          </a:lnTo>
                          <a:lnTo>
                            <a:pt x="82" y="86"/>
                          </a:lnTo>
                          <a:lnTo>
                            <a:pt x="91" y="99"/>
                          </a:lnTo>
                          <a:lnTo>
                            <a:pt x="101" y="112"/>
                          </a:lnTo>
                          <a:lnTo>
                            <a:pt x="111" y="125"/>
                          </a:lnTo>
                          <a:lnTo>
                            <a:pt x="118" y="142"/>
                          </a:lnTo>
                          <a:lnTo>
                            <a:pt x="126" y="164"/>
                          </a:lnTo>
                          <a:lnTo>
                            <a:pt x="134" y="180"/>
                          </a:lnTo>
                          <a:lnTo>
                            <a:pt x="141" y="193"/>
                          </a:lnTo>
                          <a:lnTo>
                            <a:pt x="149" y="201"/>
                          </a:lnTo>
                          <a:lnTo>
                            <a:pt x="166" y="206"/>
                          </a:lnTo>
                          <a:lnTo>
                            <a:pt x="189" y="211"/>
                          </a:lnTo>
                          <a:lnTo>
                            <a:pt x="218" y="216"/>
                          </a:lnTo>
                          <a:lnTo>
                            <a:pt x="239" y="223"/>
                          </a:lnTo>
                          <a:lnTo>
                            <a:pt x="255" y="229"/>
                          </a:lnTo>
                          <a:lnTo>
                            <a:pt x="263" y="231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59" name="Freeform 9"/>
                    <p:cNvSpPr/>
                    <p:nvPr/>
                  </p:nvSpPr>
                  <p:spPr>
                    <a:xfrm>
                      <a:off x="7294680" y="5592600"/>
                      <a:ext cx="158760" cy="73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0" h="462">
                          <a:moveTo>
                            <a:pt x="49" y="90"/>
                          </a:moveTo>
                          <a:lnTo>
                            <a:pt x="37" y="41"/>
                          </a:lnTo>
                          <a:lnTo>
                            <a:pt x="42" y="6"/>
                          </a:lnTo>
                          <a:lnTo>
                            <a:pt x="60" y="0"/>
                          </a:lnTo>
                          <a:lnTo>
                            <a:pt x="63" y="1"/>
                          </a:lnTo>
                          <a:lnTo>
                            <a:pt x="80" y="4"/>
                          </a:lnTo>
                          <a:lnTo>
                            <a:pt x="81" y="7"/>
                          </a:lnTo>
                          <a:lnTo>
                            <a:pt x="94" y="30"/>
                          </a:lnTo>
                          <a:lnTo>
                            <a:pt x="96" y="57"/>
                          </a:lnTo>
                          <a:lnTo>
                            <a:pt x="100" y="113"/>
                          </a:lnTo>
                          <a:lnTo>
                            <a:pt x="98" y="153"/>
                          </a:lnTo>
                          <a:lnTo>
                            <a:pt x="96" y="190"/>
                          </a:lnTo>
                          <a:lnTo>
                            <a:pt x="91" y="228"/>
                          </a:lnTo>
                          <a:lnTo>
                            <a:pt x="81" y="257"/>
                          </a:lnTo>
                          <a:lnTo>
                            <a:pt x="73" y="281"/>
                          </a:lnTo>
                          <a:lnTo>
                            <a:pt x="57" y="306"/>
                          </a:lnTo>
                          <a:lnTo>
                            <a:pt x="44" y="323"/>
                          </a:lnTo>
                          <a:lnTo>
                            <a:pt x="37" y="333"/>
                          </a:lnTo>
                          <a:lnTo>
                            <a:pt x="35" y="336"/>
                          </a:lnTo>
                          <a:lnTo>
                            <a:pt x="37" y="345"/>
                          </a:lnTo>
                          <a:lnTo>
                            <a:pt x="48" y="355"/>
                          </a:lnTo>
                          <a:lnTo>
                            <a:pt x="65" y="372"/>
                          </a:lnTo>
                          <a:lnTo>
                            <a:pt x="76" y="394"/>
                          </a:lnTo>
                          <a:lnTo>
                            <a:pt x="81" y="413"/>
                          </a:lnTo>
                          <a:lnTo>
                            <a:pt x="82" y="427"/>
                          </a:lnTo>
                          <a:lnTo>
                            <a:pt x="84" y="442"/>
                          </a:lnTo>
                          <a:lnTo>
                            <a:pt x="88" y="450"/>
                          </a:lnTo>
                          <a:lnTo>
                            <a:pt x="88" y="459"/>
                          </a:lnTo>
                          <a:lnTo>
                            <a:pt x="79" y="462"/>
                          </a:lnTo>
                          <a:lnTo>
                            <a:pt x="55" y="460"/>
                          </a:lnTo>
                          <a:lnTo>
                            <a:pt x="55" y="447"/>
                          </a:lnTo>
                          <a:lnTo>
                            <a:pt x="58" y="436"/>
                          </a:lnTo>
                          <a:lnTo>
                            <a:pt x="58" y="412"/>
                          </a:lnTo>
                          <a:lnTo>
                            <a:pt x="52" y="392"/>
                          </a:lnTo>
                          <a:lnTo>
                            <a:pt x="39" y="377"/>
                          </a:lnTo>
                          <a:lnTo>
                            <a:pt x="24" y="365"/>
                          </a:lnTo>
                          <a:lnTo>
                            <a:pt x="8" y="353"/>
                          </a:lnTo>
                          <a:lnTo>
                            <a:pt x="2" y="343"/>
                          </a:lnTo>
                          <a:lnTo>
                            <a:pt x="0" y="331"/>
                          </a:lnTo>
                          <a:lnTo>
                            <a:pt x="3" y="323"/>
                          </a:lnTo>
                          <a:lnTo>
                            <a:pt x="13" y="315"/>
                          </a:lnTo>
                          <a:lnTo>
                            <a:pt x="20" y="309"/>
                          </a:lnTo>
                          <a:lnTo>
                            <a:pt x="32" y="301"/>
                          </a:lnTo>
                          <a:lnTo>
                            <a:pt x="42" y="285"/>
                          </a:lnTo>
                          <a:lnTo>
                            <a:pt x="52" y="262"/>
                          </a:lnTo>
                          <a:lnTo>
                            <a:pt x="61" y="237"/>
                          </a:lnTo>
                          <a:lnTo>
                            <a:pt x="66" y="207"/>
                          </a:lnTo>
                          <a:lnTo>
                            <a:pt x="62" y="159"/>
                          </a:lnTo>
                          <a:lnTo>
                            <a:pt x="58" y="126"/>
                          </a:lnTo>
                          <a:lnTo>
                            <a:pt x="52" y="101"/>
                          </a:lnTo>
                          <a:lnTo>
                            <a:pt x="49" y="9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0" name="Freeform 10"/>
                    <p:cNvSpPr/>
                    <p:nvPr/>
                  </p:nvSpPr>
                  <p:spPr>
                    <a:xfrm>
                      <a:off x="6978600" y="5603760"/>
                      <a:ext cx="40788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7" h="298">
                          <a:moveTo>
                            <a:pt x="154" y="156"/>
                          </a:moveTo>
                          <a:lnTo>
                            <a:pt x="126" y="148"/>
                          </a:lnTo>
                          <a:lnTo>
                            <a:pt x="101" y="144"/>
                          </a:lnTo>
                          <a:lnTo>
                            <a:pt x="71" y="144"/>
                          </a:lnTo>
                          <a:lnTo>
                            <a:pt x="46" y="148"/>
                          </a:lnTo>
                          <a:lnTo>
                            <a:pt x="19" y="155"/>
                          </a:lnTo>
                          <a:lnTo>
                            <a:pt x="3" y="165"/>
                          </a:lnTo>
                          <a:lnTo>
                            <a:pt x="0" y="174"/>
                          </a:lnTo>
                          <a:lnTo>
                            <a:pt x="0" y="177"/>
                          </a:lnTo>
                          <a:lnTo>
                            <a:pt x="3" y="185"/>
                          </a:lnTo>
                          <a:lnTo>
                            <a:pt x="14" y="193"/>
                          </a:lnTo>
                          <a:lnTo>
                            <a:pt x="15" y="196"/>
                          </a:lnTo>
                          <a:lnTo>
                            <a:pt x="27" y="205"/>
                          </a:lnTo>
                          <a:lnTo>
                            <a:pt x="36" y="221"/>
                          </a:lnTo>
                          <a:lnTo>
                            <a:pt x="36" y="225"/>
                          </a:lnTo>
                          <a:lnTo>
                            <a:pt x="38" y="243"/>
                          </a:lnTo>
                          <a:lnTo>
                            <a:pt x="32" y="260"/>
                          </a:lnTo>
                          <a:lnTo>
                            <a:pt x="31" y="263"/>
                          </a:lnTo>
                          <a:lnTo>
                            <a:pt x="26" y="272"/>
                          </a:lnTo>
                          <a:lnTo>
                            <a:pt x="23" y="273"/>
                          </a:lnTo>
                          <a:lnTo>
                            <a:pt x="21" y="278"/>
                          </a:lnTo>
                          <a:lnTo>
                            <a:pt x="18" y="279"/>
                          </a:lnTo>
                          <a:lnTo>
                            <a:pt x="21" y="290"/>
                          </a:lnTo>
                          <a:lnTo>
                            <a:pt x="31" y="298"/>
                          </a:lnTo>
                          <a:lnTo>
                            <a:pt x="38" y="293"/>
                          </a:lnTo>
                          <a:lnTo>
                            <a:pt x="44" y="278"/>
                          </a:lnTo>
                          <a:lnTo>
                            <a:pt x="52" y="259"/>
                          </a:lnTo>
                          <a:lnTo>
                            <a:pt x="54" y="241"/>
                          </a:lnTo>
                          <a:lnTo>
                            <a:pt x="53" y="221"/>
                          </a:lnTo>
                          <a:lnTo>
                            <a:pt x="49" y="208"/>
                          </a:lnTo>
                          <a:lnTo>
                            <a:pt x="44" y="195"/>
                          </a:lnTo>
                          <a:lnTo>
                            <a:pt x="34" y="184"/>
                          </a:lnTo>
                          <a:lnTo>
                            <a:pt x="32" y="173"/>
                          </a:lnTo>
                          <a:lnTo>
                            <a:pt x="46" y="168"/>
                          </a:lnTo>
                          <a:lnTo>
                            <a:pt x="72" y="168"/>
                          </a:lnTo>
                          <a:lnTo>
                            <a:pt x="102" y="170"/>
                          </a:lnTo>
                          <a:lnTo>
                            <a:pt x="137" y="178"/>
                          </a:lnTo>
                          <a:lnTo>
                            <a:pt x="161" y="186"/>
                          </a:lnTo>
                          <a:lnTo>
                            <a:pt x="180" y="195"/>
                          </a:lnTo>
                          <a:lnTo>
                            <a:pt x="189" y="196"/>
                          </a:lnTo>
                          <a:lnTo>
                            <a:pt x="200" y="195"/>
                          </a:lnTo>
                          <a:lnTo>
                            <a:pt x="207" y="193"/>
                          </a:lnTo>
                          <a:lnTo>
                            <a:pt x="213" y="185"/>
                          </a:lnTo>
                          <a:lnTo>
                            <a:pt x="222" y="168"/>
                          </a:lnTo>
                          <a:lnTo>
                            <a:pt x="232" y="134"/>
                          </a:lnTo>
                          <a:lnTo>
                            <a:pt x="241" y="100"/>
                          </a:lnTo>
                          <a:lnTo>
                            <a:pt x="247" y="67"/>
                          </a:lnTo>
                          <a:lnTo>
                            <a:pt x="255" y="37"/>
                          </a:lnTo>
                          <a:lnTo>
                            <a:pt x="257" y="13"/>
                          </a:lnTo>
                          <a:lnTo>
                            <a:pt x="240" y="0"/>
                          </a:lnTo>
                          <a:lnTo>
                            <a:pt x="219" y="4"/>
                          </a:lnTo>
                          <a:lnTo>
                            <a:pt x="204" y="12"/>
                          </a:lnTo>
                          <a:lnTo>
                            <a:pt x="201" y="23"/>
                          </a:lnTo>
                          <a:lnTo>
                            <a:pt x="199" y="60"/>
                          </a:lnTo>
                          <a:lnTo>
                            <a:pt x="196" y="106"/>
                          </a:lnTo>
                          <a:lnTo>
                            <a:pt x="194" y="136"/>
                          </a:lnTo>
                          <a:lnTo>
                            <a:pt x="191" y="153"/>
                          </a:lnTo>
                          <a:lnTo>
                            <a:pt x="187" y="161"/>
                          </a:lnTo>
                          <a:lnTo>
                            <a:pt x="181" y="163"/>
                          </a:lnTo>
                          <a:lnTo>
                            <a:pt x="171" y="163"/>
                          </a:lnTo>
                          <a:lnTo>
                            <a:pt x="159" y="157"/>
                          </a:lnTo>
                          <a:lnTo>
                            <a:pt x="154" y="156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1661" name="Group 31"/>
                  <p:cNvGrpSpPr/>
                  <p:nvPr/>
                </p:nvGrpSpPr>
                <p:grpSpPr>
                  <a:xfrm>
                    <a:off x="7626240" y="5346720"/>
                    <a:ext cx="1038240" cy="1074600"/>
                    <a:chOff x="7626240" y="5346720"/>
                    <a:chExt cx="1038240" cy="1074600"/>
                  </a:xfrm>
                </p:grpSpPr>
                <p:sp>
                  <p:nvSpPr>
                    <p:cNvPr id="1662" name="Freeform 25"/>
                    <p:cNvSpPr/>
                    <p:nvPr/>
                  </p:nvSpPr>
                  <p:spPr>
                    <a:xfrm>
                      <a:off x="7948440" y="5346720"/>
                      <a:ext cx="282600" cy="26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8" h="164">
                          <a:moveTo>
                            <a:pt x="74" y="38"/>
                          </a:moveTo>
                          <a:lnTo>
                            <a:pt x="58" y="25"/>
                          </a:lnTo>
                          <a:lnTo>
                            <a:pt x="42" y="16"/>
                          </a:lnTo>
                          <a:lnTo>
                            <a:pt x="26" y="13"/>
                          </a:lnTo>
                          <a:lnTo>
                            <a:pt x="14" y="12"/>
                          </a:lnTo>
                          <a:lnTo>
                            <a:pt x="10" y="13"/>
                          </a:lnTo>
                          <a:lnTo>
                            <a:pt x="5" y="15"/>
                          </a:lnTo>
                          <a:lnTo>
                            <a:pt x="0" y="23"/>
                          </a:lnTo>
                          <a:lnTo>
                            <a:pt x="5" y="34"/>
                          </a:lnTo>
                          <a:lnTo>
                            <a:pt x="17" y="39"/>
                          </a:lnTo>
                          <a:lnTo>
                            <a:pt x="34" y="37"/>
                          </a:lnTo>
                          <a:lnTo>
                            <a:pt x="53" y="42"/>
                          </a:lnTo>
                          <a:lnTo>
                            <a:pt x="65" y="53"/>
                          </a:lnTo>
                          <a:lnTo>
                            <a:pt x="69" y="57"/>
                          </a:lnTo>
                          <a:lnTo>
                            <a:pt x="66" y="74"/>
                          </a:lnTo>
                          <a:lnTo>
                            <a:pt x="63" y="101"/>
                          </a:lnTo>
                          <a:lnTo>
                            <a:pt x="62" y="120"/>
                          </a:lnTo>
                          <a:lnTo>
                            <a:pt x="64" y="134"/>
                          </a:lnTo>
                          <a:lnTo>
                            <a:pt x="68" y="146"/>
                          </a:lnTo>
                          <a:lnTo>
                            <a:pt x="75" y="155"/>
                          </a:lnTo>
                          <a:lnTo>
                            <a:pt x="86" y="161"/>
                          </a:lnTo>
                          <a:lnTo>
                            <a:pt x="96" y="164"/>
                          </a:lnTo>
                          <a:lnTo>
                            <a:pt x="111" y="164"/>
                          </a:lnTo>
                          <a:lnTo>
                            <a:pt x="126" y="160"/>
                          </a:lnTo>
                          <a:lnTo>
                            <a:pt x="138" y="153"/>
                          </a:lnTo>
                          <a:lnTo>
                            <a:pt x="150" y="142"/>
                          </a:lnTo>
                          <a:lnTo>
                            <a:pt x="159" y="129"/>
                          </a:lnTo>
                          <a:lnTo>
                            <a:pt x="166" y="114"/>
                          </a:lnTo>
                          <a:lnTo>
                            <a:pt x="170" y="101"/>
                          </a:lnTo>
                          <a:lnTo>
                            <a:pt x="175" y="86"/>
                          </a:lnTo>
                          <a:lnTo>
                            <a:pt x="178" y="71"/>
                          </a:lnTo>
                          <a:lnTo>
                            <a:pt x="177" y="56"/>
                          </a:lnTo>
                          <a:lnTo>
                            <a:pt x="177" y="41"/>
                          </a:lnTo>
                          <a:lnTo>
                            <a:pt x="174" y="26"/>
                          </a:lnTo>
                          <a:lnTo>
                            <a:pt x="169" y="15"/>
                          </a:lnTo>
                          <a:lnTo>
                            <a:pt x="160" y="7"/>
                          </a:lnTo>
                          <a:lnTo>
                            <a:pt x="152" y="4"/>
                          </a:lnTo>
                          <a:lnTo>
                            <a:pt x="139" y="0"/>
                          </a:lnTo>
                          <a:lnTo>
                            <a:pt x="125" y="0"/>
                          </a:lnTo>
                          <a:lnTo>
                            <a:pt x="114" y="4"/>
                          </a:lnTo>
                          <a:lnTo>
                            <a:pt x="107" y="8"/>
                          </a:lnTo>
                          <a:lnTo>
                            <a:pt x="99" y="14"/>
                          </a:lnTo>
                          <a:lnTo>
                            <a:pt x="93" y="19"/>
                          </a:lnTo>
                          <a:lnTo>
                            <a:pt x="85" y="27"/>
                          </a:lnTo>
                          <a:lnTo>
                            <a:pt x="80" y="33"/>
                          </a:lnTo>
                          <a:lnTo>
                            <a:pt x="74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3" name="Freeform 26"/>
                    <p:cNvSpPr/>
                    <p:nvPr/>
                  </p:nvSpPr>
                  <p:spPr>
                    <a:xfrm>
                      <a:off x="7916760" y="5667480"/>
                      <a:ext cx="24300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3" h="234">
                          <a:moveTo>
                            <a:pt x="43" y="29"/>
                          </a:moveTo>
                          <a:lnTo>
                            <a:pt x="61" y="13"/>
                          </a:lnTo>
                          <a:lnTo>
                            <a:pt x="80" y="5"/>
                          </a:lnTo>
                          <a:lnTo>
                            <a:pt x="102" y="1"/>
                          </a:lnTo>
                          <a:lnTo>
                            <a:pt x="119" y="0"/>
                          </a:lnTo>
                          <a:lnTo>
                            <a:pt x="132" y="4"/>
                          </a:lnTo>
                          <a:lnTo>
                            <a:pt x="144" y="12"/>
                          </a:lnTo>
                          <a:lnTo>
                            <a:pt x="151" y="23"/>
                          </a:lnTo>
                          <a:lnTo>
                            <a:pt x="153" y="36"/>
                          </a:lnTo>
                          <a:lnTo>
                            <a:pt x="153" y="54"/>
                          </a:lnTo>
                          <a:lnTo>
                            <a:pt x="149" y="55"/>
                          </a:lnTo>
                          <a:lnTo>
                            <a:pt x="144" y="71"/>
                          </a:lnTo>
                          <a:lnTo>
                            <a:pt x="138" y="84"/>
                          </a:lnTo>
                          <a:lnTo>
                            <a:pt x="127" y="97"/>
                          </a:lnTo>
                          <a:lnTo>
                            <a:pt x="118" y="106"/>
                          </a:lnTo>
                          <a:lnTo>
                            <a:pt x="111" y="121"/>
                          </a:lnTo>
                          <a:lnTo>
                            <a:pt x="110" y="132"/>
                          </a:lnTo>
                          <a:lnTo>
                            <a:pt x="113" y="146"/>
                          </a:lnTo>
                          <a:lnTo>
                            <a:pt x="121" y="157"/>
                          </a:lnTo>
                          <a:lnTo>
                            <a:pt x="127" y="168"/>
                          </a:lnTo>
                          <a:lnTo>
                            <a:pt x="130" y="180"/>
                          </a:lnTo>
                          <a:lnTo>
                            <a:pt x="130" y="194"/>
                          </a:lnTo>
                          <a:lnTo>
                            <a:pt x="127" y="208"/>
                          </a:lnTo>
                          <a:lnTo>
                            <a:pt x="121" y="219"/>
                          </a:lnTo>
                          <a:lnTo>
                            <a:pt x="110" y="227"/>
                          </a:lnTo>
                          <a:lnTo>
                            <a:pt x="97" y="232"/>
                          </a:lnTo>
                          <a:lnTo>
                            <a:pt x="79" y="234"/>
                          </a:lnTo>
                          <a:lnTo>
                            <a:pt x="62" y="234"/>
                          </a:lnTo>
                          <a:lnTo>
                            <a:pt x="45" y="231"/>
                          </a:lnTo>
                          <a:lnTo>
                            <a:pt x="31" y="222"/>
                          </a:lnTo>
                          <a:lnTo>
                            <a:pt x="22" y="213"/>
                          </a:lnTo>
                          <a:lnTo>
                            <a:pt x="14" y="197"/>
                          </a:lnTo>
                          <a:lnTo>
                            <a:pt x="8" y="183"/>
                          </a:lnTo>
                          <a:lnTo>
                            <a:pt x="3" y="166"/>
                          </a:lnTo>
                          <a:lnTo>
                            <a:pt x="0" y="145"/>
                          </a:lnTo>
                          <a:lnTo>
                            <a:pt x="1" y="122"/>
                          </a:lnTo>
                          <a:lnTo>
                            <a:pt x="6" y="102"/>
                          </a:lnTo>
                          <a:lnTo>
                            <a:pt x="10" y="84"/>
                          </a:lnTo>
                          <a:lnTo>
                            <a:pt x="17" y="66"/>
                          </a:lnTo>
                          <a:lnTo>
                            <a:pt x="24" y="51"/>
                          </a:lnTo>
                          <a:lnTo>
                            <a:pt x="35" y="38"/>
                          </a:lnTo>
                          <a:lnTo>
                            <a:pt x="43" y="29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4" name="Freeform 27"/>
                    <p:cNvSpPr/>
                    <p:nvPr/>
                  </p:nvSpPr>
                  <p:spPr>
                    <a:xfrm>
                      <a:off x="8093160" y="5597640"/>
                      <a:ext cx="57132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0" h="166">
                          <a:moveTo>
                            <a:pt x="0" y="65"/>
                          </a:moveTo>
                          <a:lnTo>
                            <a:pt x="9" y="51"/>
                          </a:lnTo>
                          <a:lnTo>
                            <a:pt x="24" y="39"/>
                          </a:lnTo>
                          <a:lnTo>
                            <a:pt x="20" y="40"/>
                          </a:lnTo>
                          <a:lnTo>
                            <a:pt x="51" y="27"/>
                          </a:lnTo>
                          <a:lnTo>
                            <a:pt x="82" y="15"/>
                          </a:lnTo>
                          <a:lnTo>
                            <a:pt x="119" y="5"/>
                          </a:lnTo>
                          <a:lnTo>
                            <a:pt x="152" y="1"/>
                          </a:lnTo>
                          <a:lnTo>
                            <a:pt x="173" y="0"/>
                          </a:lnTo>
                          <a:lnTo>
                            <a:pt x="182" y="9"/>
                          </a:lnTo>
                          <a:lnTo>
                            <a:pt x="194" y="30"/>
                          </a:lnTo>
                          <a:lnTo>
                            <a:pt x="205" y="50"/>
                          </a:lnTo>
                          <a:lnTo>
                            <a:pt x="218" y="71"/>
                          </a:lnTo>
                          <a:lnTo>
                            <a:pt x="235" y="88"/>
                          </a:lnTo>
                          <a:lnTo>
                            <a:pt x="262" y="101"/>
                          </a:lnTo>
                          <a:lnTo>
                            <a:pt x="277" y="109"/>
                          </a:lnTo>
                          <a:lnTo>
                            <a:pt x="292" y="114"/>
                          </a:lnTo>
                          <a:lnTo>
                            <a:pt x="308" y="112"/>
                          </a:lnTo>
                          <a:lnTo>
                            <a:pt x="325" y="106"/>
                          </a:lnTo>
                          <a:lnTo>
                            <a:pt x="337" y="100"/>
                          </a:lnTo>
                          <a:lnTo>
                            <a:pt x="349" y="98"/>
                          </a:lnTo>
                          <a:lnTo>
                            <a:pt x="352" y="99"/>
                          </a:lnTo>
                          <a:lnTo>
                            <a:pt x="358" y="104"/>
                          </a:lnTo>
                          <a:lnTo>
                            <a:pt x="360" y="113"/>
                          </a:lnTo>
                          <a:lnTo>
                            <a:pt x="349" y="118"/>
                          </a:lnTo>
                          <a:lnTo>
                            <a:pt x="346" y="119"/>
                          </a:lnTo>
                          <a:lnTo>
                            <a:pt x="336" y="120"/>
                          </a:lnTo>
                          <a:lnTo>
                            <a:pt x="333" y="120"/>
                          </a:lnTo>
                          <a:lnTo>
                            <a:pt x="320" y="119"/>
                          </a:lnTo>
                          <a:lnTo>
                            <a:pt x="315" y="121"/>
                          </a:lnTo>
                          <a:lnTo>
                            <a:pt x="320" y="125"/>
                          </a:lnTo>
                          <a:lnTo>
                            <a:pt x="331" y="128"/>
                          </a:lnTo>
                          <a:lnTo>
                            <a:pt x="349" y="132"/>
                          </a:lnTo>
                          <a:lnTo>
                            <a:pt x="355" y="137"/>
                          </a:lnTo>
                          <a:lnTo>
                            <a:pt x="356" y="140"/>
                          </a:lnTo>
                          <a:lnTo>
                            <a:pt x="358" y="145"/>
                          </a:lnTo>
                          <a:lnTo>
                            <a:pt x="356" y="148"/>
                          </a:lnTo>
                          <a:lnTo>
                            <a:pt x="353" y="155"/>
                          </a:lnTo>
                          <a:lnTo>
                            <a:pt x="350" y="155"/>
                          </a:lnTo>
                          <a:lnTo>
                            <a:pt x="343" y="152"/>
                          </a:lnTo>
                          <a:lnTo>
                            <a:pt x="334" y="145"/>
                          </a:lnTo>
                          <a:lnTo>
                            <a:pt x="323" y="138"/>
                          </a:lnTo>
                          <a:lnTo>
                            <a:pt x="312" y="132"/>
                          </a:lnTo>
                          <a:lnTo>
                            <a:pt x="306" y="136"/>
                          </a:lnTo>
                          <a:lnTo>
                            <a:pt x="305" y="139"/>
                          </a:lnTo>
                          <a:lnTo>
                            <a:pt x="305" y="150"/>
                          </a:lnTo>
                          <a:lnTo>
                            <a:pt x="304" y="161"/>
                          </a:lnTo>
                          <a:lnTo>
                            <a:pt x="299" y="166"/>
                          </a:lnTo>
                          <a:lnTo>
                            <a:pt x="291" y="163"/>
                          </a:lnTo>
                          <a:lnTo>
                            <a:pt x="285" y="157"/>
                          </a:lnTo>
                          <a:lnTo>
                            <a:pt x="286" y="146"/>
                          </a:lnTo>
                          <a:lnTo>
                            <a:pt x="289" y="139"/>
                          </a:lnTo>
                          <a:lnTo>
                            <a:pt x="286" y="131"/>
                          </a:lnTo>
                          <a:lnTo>
                            <a:pt x="278" y="123"/>
                          </a:lnTo>
                          <a:lnTo>
                            <a:pt x="244" y="116"/>
                          </a:lnTo>
                          <a:lnTo>
                            <a:pt x="223" y="110"/>
                          </a:lnTo>
                          <a:lnTo>
                            <a:pt x="203" y="97"/>
                          </a:lnTo>
                          <a:lnTo>
                            <a:pt x="187" y="78"/>
                          </a:lnTo>
                          <a:lnTo>
                            <a:pt x="173" y="56"/>
                          </a:lnTo>
                          <a:lnTo>
                            <a:pt x="162" y="38"/>
                          </a:lnTo>
                          <a:lnTo>
                            <a:pt x="154" y="34"/>
                          </a:lnTo>
                          <a:lnTo>
                            <a:pt x="125" y="41"/>
                          </a:lnTo>
                          <a:lnTo>
                            <a:pt x="97" y="50"/>
                          </a:lnTo>
                          <a:lnTo>
                            <a:pt x="66" y="65"/>
                          </a:lnTo>
                          <a:lnTo>
                            <a:pt x="37" y="82"/>
                          </a:lnTo>
                          <a:lnTo>
                            <a:pt x="23" y="88"/>
                          </a:lnTo>
                          <a:lnTo>
                            <a:pt x="9" y="82"/>
                          </a:lnTo>
                          <a:lnTo>
                            <a:pt x="2" y="73"/>
                          </a:lnTo>
                          <a:lnTo>
                            <a:pt x="0" y="65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5" name="Freeform 28"/>
                    <p:cNvSpPr/>
                    <p:nvPr/>
                  </p:nvSpPr>
                  <p:spPr>
                    <a:xfrm>
                      <a:off x="7626240" y="5670720"/>
                      <a:ext cx="438120" cy="33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6" h="212">
                          <a:moveTo>
                            <a:pt x="211" y="3"/>
                          </a:moveTo>
                          <a:lnTo>
                            <a:pt x="238" y="0"/>
                          </a:lnTo>
                          <a:lnTo>
                            <a:pt x="266" y="4"/>
                          </a:lnTo>
                          <a:lnTo>
                            <a:pt x="276" y="12"/>
                          </a:lnTo>
                          <a:lnTo>
                            <a:pt x="273" y="30"/>
                          </a:lnTo>
                          <a:lnTo>
                            <a:pt x="254" y="41"/>
                          </a:lnTo>
                          <a:lnTo>
                            <a:pt x="251" y="42"/>
                          </a:lnTo>
                          <a:lnTo>
                            <a:pt x="235" y="44"/>
                          </a:lnTo>
                          <a:lnTo>
                            <a:pt x="232" y="45"/>
                          </a:lnTo>
                          <a:lnTo>
                            <a:pt x="205" y="40"/>
                          </a:lnTo>
                          <a:lnTo>
                            <a:pt x="179" y="37"/>
                          </a:lnTo>
                          <a:lnTo>
                            <a:pt x="150" y="34"/>
                          </a:lnTo>
                          <a:lnTo>
                            <a:pt x="121" y="36"/>
                          </a:lnTo>
                          <a:lnTo>
                            <a:pt x="102" y="38"/>
                          </a:lnTo>
                          <a:lnTo>
                            <a:pt x="99" y="44"/>
                          </a:lnTo>
                          <a:lnTo>
                            <a:pt x="100" y="61"/>
                          </a:lnTo>
                          <a:lnTo>
                            <a:pt x="102" y="90"/>
                          </a:lnTo>
                          <a:lnTo>
                            <a:pt x="99" y="117"/>
                          </a:lnTo>
                          <a:lnTo>
                            <a:pt x="94" y="140"/>
                          </a:lnTo>
                          <a:lnTo>
                            <a:pt x="88" y="157"/>
                          </a:lnTo>
                          <a:lnTo>
                            <a:pt x="86" y="160"/>
                          </a:lnTo>
                          <a:lnTo>
                            <a:pt x="82" y="171"/>
                          </a:lnTo>
                          <a:lnTo>
                            <a:pt x="86" y="181"/>
                          </a:lnTo>
                          <a:lnTo>
                            <a:pt x="101" y="189"/>
                          </a:lnTo>
                          <a:lnTo>
                            <a:pt x="109" y="196"/>
                          </a:lnTo>
                          <a:lnTo>
                            <a:pt x="110" y="205"/>
                          </a:lnTo>
                          <a:lnTo>
                            <a:pt x="99" y="212"/>
                          </a:lnTo>
                          <a:lnTo>
                            <a:pt x="87" y="206"/>
                          </a:lnTo>
                          <a:lnTo>
                            <a:pt x="81" y="194"/>
                          </a:lnTo>
                          <a:lnTo>
                            <a:pt x="72" y="185"/>
                          </a:lnTo>
                          <a:lnTo>
                            <a:pt x="49" y="183"/>
                          </a:lnTo>
                          <a:lnTo>
                            <a:pt x="23" y="185"/>
                          </a:lnTo>
                          <a:lnTo>
                            <a:pt x="20" y="186"/>
                          </a:lnTo>
                          <a:lnTo>
                            <a:pt x="8" y="180"/>
                          </a:lnTo>
                          <a:lnTo>
                            <a:pt x="0" y="173"/>
                          </a:lnTo>
                          <a:lnTo>
                            <a:pt x="6" y="165"/>
                          </a:lnTo>
                          <a:lnTo>
                            <a:pt x="18" y="162"/>
                          </a:lnTo>
                          <a:lnTo>
                            <a:pt x="25" y="164"/>
                          </a:lnTo>
                          <a:lnTo>
                            <a:pt x="43" y="170"/>
                          </a:lnTo>
                          <a:lnTo>
                            <a:pt x="53" y="170"/>
                          </a:lnTo>
                          <a:lnTo>
                            <a:pt x="60" y="166"/>
                          </a:lnTo>
                          <a:lnTo>
                            <a:pt x="51" y="163"/>
                          </a:lnTo>
                          <a:lnTo>
                            <a:pt x="48" y="164"/>
                          </a:lnTo>
                          <a:lnTo>
                            <a:pt x="39" y="160"/>
                          </a:lnTo>
                          <a:lnTo>
                            <a:pt x="27" y="153"/>
                          </a:lnTo>
                          <a:lnTo>
                            <a:pt x="27" y="146"/>
                          </a:lnTo>
                          <a:lnTo>
                            <a:pt x="35" y="141"/>
                          </a:lnTo>
                          <a:lnTo>
                            <a:pt x="44" y="139"/>
                          </a:lnTo>
                          <a:lnTo>
                            <a:pt x="53" y="145"/>
                          </a:lnTo>
                          <a:lnTo>
                            <a:pt x="63" y="154"/>
                          </a:lnTo>
                          <a:lnTo>
                            <a:pt x="69" y="156"/>
                          </a:lnTo>
                          <a:lnTo>
                            <a:pt x="74" y="144"/>
                          </a:lnTo>
                          <a:lnTo>
                            <a:pt x="79" y="126"/>
                          </a:lnTo>
                          <a:lnTo>
                            <a:pt x="81" y="101"/>
                          </a:lnTo>
                          <a:lnTo>
                            <a:pt x="81" y="82"/>
                          </a:lnTo>
                          <a:lnTo>
                            <a:pt x="78" y="63"/>
                          </a:lnTo>
                          <a:lnTo>
                            <a:pt x="77" y="44"/>
                          </a:lnTo>
                          <a:lnTo>
                            <a:pt x="77" y="27"/>
                          </a:lnTo>
                          <a:lnTo>
                            <a:pt x="83" y="18"/>
                          </a:lnTo>
                          <a:lnTo>
                            <a:pt x="90" y="15"/>
                          </a:lnTo>
                          <a:lnTo>
                            <a:pt x="112" y="11"/>
                          </a:lnTo>
                          <a:lnTo>
                            <a:pt x="141" y="8"/>
                          </a:lnTo>
                          <a:lnTo>
                            <a:pt x="162" y="6"/>
                          </a:lnTo>
                          <a:lnTo>
                            <a:pt x="182" y="4"/>
                          </a:lnTo>
                          <a:lnTo>
                            <a:pt x="211" y="3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6" name="Freeform 29"/>
                    <p:cNvSpPr/>
                    <p:nvPr/>
                  </p:nvSpPr>
                  <p:spPr>
                    <a:xfrm>
                      <a:off x="7843680" y="5972040"/>
                      <a:ext cx="206640" cy="44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83">
                          <a:moveTo>
                            <a:pt x="53" y="40"/>
                          </a:moveTo>
                          <a:lnTo>
                            <a:pt x="78" y="5"/>
                          </a:lnTo>
                          <a:lnTo>
                            <a:pt x="99" y="0"/>
                          </a:lnTo>
                          <a:lnTo>
                            <a:pt x="102" y="0"/>
                          </a:lnTo>
                          <a:lnTo>
                            <a:pt x="121" y="7"/>
                          </a:lnTo>
                          <a:lnTo>
                            <a:pt x="130" y="22"/>
                          </a:lnTo>
                          <a:lnTo>
                            <a:pt x="128" y="35"/>
                          </a:lnTo>
                          <a:lnTo>
                            <a:pt x="118" y="44"/>
                          </a:lnTo>
                          <a:lnTo>
                            <a:pt x="79" y="68"/>
                          </a:lnTo>
                          <a:lnTo>
                            <a:pt x="48" y="89"/>
                          </a:lnTo>
                          <a:lnTo>
                            <a:pt x="43" y="97"/>
                          </a:lnTo>
                          <a:lnTo>
                            <a:pt x="41" y="105"/>
                          </a:lnTo>
                          <a:lnTo>
                            <a:pt x="40" y="109"/>
                          </a:lnTo>
                          <a:lnTo>
                            <a:pt x="44" y="118"/>
                          </a:lnTo>
                          <a:lnTo>
                            <a:pt x="55" y="132"/>
                          </a:lnTo>
                          <a:lnTo>
                            <a:pt x="68" y="149"/>
                          </a:lnTo>
                          <a:lnTo>
                            <a:pt x="83" y="164"/>
                          </a:lnTo>
                          <a:lnTo>
                            <a:pt x="92" y="177"/>
                          </a:lnTo>
                          <a:lnTo>
                            <a:pt x="101" y="189"/>
                          </a:lnTo>
                          <a:lnTo>
                            <a:pt x="108" y="206"/>
                          </a:lnTo>
                          <a:lnTo>
                            <a:pt x="115" y="216"/>
                          </a:lnTo>
                          <a:lnTo>
                            <a:pt x="117" y="224"/>
                          </a:lnTo>
                          <a:lnTo>
                            <a:pt x="116" y="233"/>
                          </a:lnTo>
                          <a:lnTo>
                            <a:pt x="110" y="240"/>
                          </a:lnTo>
                          <a:lnTo>
                            <a:pt x="96" y="244"/>
                          </a:lnTo>
                          <a:lnTo>
                            <a:pt x="81" y="248"/>
                          </a:lnTo>
                          <a:lnTo>
                            <a:pt x="78" y="249"/>
                          </a:lnTo>
                          <a:lnTo>
                            <a:pt x="63" y="252"/>
                          </a:lnTo>
                          <a:lnTo>
                            <a:pt x="46" y="260"/>
                          </a:lnTo>
                          <a:lnTo>
                            <a:pt x="31" y="272"/>
                          </a:lnTo>
                          <a:lnTo>
                            <a:pt x="23" y="281"/>
                          </a:lnTo>
                          <a:lnTo>
                            <a:pt x="15" y="283"/>
                          </a:lnTo>
                          <a:lnTo>
                            <a:pt x="12" y="283"/>
                          </a:lnTo>
                          <a:lnTo>
                            <a:pt x="6" y="276"/>
                          </a:lnTo>
                          <a:lnTo>
                            <a:pt x="0" y="264"/>
                          </a:lnTo>
                          <a:lnTo>
                            <a:pt x="0" y="247"/>
                          </a:lnTo>
                          <a:lnTo>
                            <a:pt x="8" y="241"/>
                          </a:lnTo>
                          <a:lnTo>
                            <a:pt x="22" y="235"/>
                          </a:lnTo>
                          <a:lnTo>
                            <a:pt x="46" y="228"/>
                          </a:lnTo>
                          <a:lnTo>
                            <a:pt x="72" y="222"/>
                          </a:lnTo>
                          <a:lnTo>
                            <a:pt x="82" y="219"/>
                          </a:lnTo>
                          <a:lnTo>
                            <a:pt x="85" y="208"/>
                          </a:lnTo>
                          <a:lnTo>
                            <a:pt x="84" y="196"/>
                          </a:lnTo>
                          <a:lnTo>
                            <a:pt x="78" y="186"/>
                          </a:lnTo>
                          <a:lnTo>
                            <a:pt x="61" y="170"/>
                          </a:lnTo>
                          <a:lnTo>
                            <a:pt x="41" y="154"/>
                          </a:lnTo>
                          <a:lnTo>
                            <a:pt x="24" y="137"/>
                          </a:lnTo>
                          <a:lnTo>
                            <a:pt x="13" y="118"/>
                          </a:lnTo>
                          <a:lnTo>
                            <a:pt x="12" y="106"/>
                          </a:lnTo>
                          <a:lnTo>
                            <a:pt x="14" y="93"/>
                          </a:lnTo>
                          <a:lnTo>
                            <a:pt x="22" y="78"/>
                          </a:lnTo>
                          <a:lnTo>
                            <a:pt x="31" y="64"/>
                          </a:lnTo>
                          <a:lnTo>
                            <a:pt x="42" y="52"/>
                          </a:lnTo>
                          <a:lnTo>
                            <a:pt x="53" y="40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667" name="Freeform 30"/>
                    <p:cNvSpPr/>
                    <p:nvPr/>
                  </p:nvSpPr>
                  <p:spPr>
                    <a:xfrm>
                      <a:off x="8016840" y="5946840"/>
                      <a:ext cx="254160" cy="37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235">
                          <a:moveTo>
                            <a:pt x="9" y="38"/>
                          </a:moveTo>
                          <a:lnTo>
                            <a:pt x="17" y="22"/>
                          </a:lnTo>
                          <a:lnTo>
                            <a:pt x="25" y="6"/>
                          </a:lnTo>
                          <a:lnTo>
                            <a:pt x="41" y="0"/>
                          </a:lnTo>
                          <a:lnTo>
                            <a:pt x="55" y="3"/>
                          </a:lnTo>
                          <a:lnTo>
                            <a:pt x="62" y="15"/>
                          </a:lnTo>
                          <a:lnTo>
                            <a:pt x="63" y="32"/>
                          </a:lnTo>
                          <a:lnTo>
                            <a:pt x="55" y="57"/>
                          </a:lnTo>
                          <a:lnTo>
                            <a:pt x="42" y="89"/>
                          </a:lnTo>
                          <a:lnTo>
                            <a:pt x="33" y="111"/>
                          </a:lnTo>
                          <a:lnTo>
                            <a:pt x="32" y="120"/>
                          </a:lnTo>
                          <a:lnTo>
                            <a:pt x="35" y="130"/>
                          </a:lnTo>
                          <a:lnTo>
                            <a:pt x="48" y="135"/>
                          </a:lnTo>
                          <a:lnTo>
                            <a:pt x="77" y="137"/>
                          </a:lnTo>
                          <a:lnTo>
                            <a:pt x="104" y="134"/>
                          </a:lnTo>
                          <a:lnTo>
                            <a:pt x="131" y="131"/>
                          </a:lnTo>
                          <a:lnTo>
                            <a:pt x="142" y="126"/>
                          </a:lnTo>
                          <a:lnTo>
                            <a:pt x="149" y="125"/>
                          </a:lnTo>
                          <a:lnTo>
                            <a:pt x="159" y="131"/>
                          </a:lnTo>
                          <a:lnTo>
                            <a:pt x="160" y="141"/>
                          </a:lnTo>
                          <a:lnTo>
                            <a:pt x="155" y="158"/>
                          </a:lnTo>
                          <a:lnTo>
                            <a:pt x="143" y="178"/>
                          </a:lnTo>
                          <a:lnTo>
                            <a:pt x="138" y="195"/>
                          </a:lnTo>
                          <a:lnTo>
                            <a:pt x="138" y="198"/>
                          </a:lnTo>
                          <a:lnTo>
                            <a:pt x="137" y="216"/>
                          </a:lnTo>
                          <a:lnTo>
                            <a:pt x="136" y="227"/>
                          </a:lnTo>
                          <a:lnTo>
                            <a:pt x="116" y="235"/>
                          </a:lnTo>
                          <a:lnTo>
                            <a:pt x="104" y="232"/>
                          </a:lnTo>
                          <a:lnTo>
                            <a:pt x="99" y="225"/>
                          </a:lnTo>
                          <a:lnTo>
                            <a:pt x="99" y="214"/>
                          </a:lnTo>
                          <a:lnTo>
                            <a:pt x="106" y="194"/>
                          </a:lnTo>
                          <a:lnTo>
                            <a:pt x="118" y="178"/>
                          </a:lnTo>
                          <a:lnTo>
                            <a:pt x="128" y="158"/>
                          </a:lnTo>
                          <a:lnTo>
                            <a:pt x="133" y="151"/>
                          </a:lnTo>
                          <a:lnTo>
                            <a:pt x="108" y="158"/>
                          </a:lnTo>
                          <a:lnTo>
                            <a:pt x="83" y="161"/>
                          </a:lnTo>
                          <a:lnTo>
                            <a:pt x="58" y="160"/>
                          </a:lnTo>
                          <a:lnTo>
                            <a:pt x="36" y="158"/>
                          </a:lnTo>
                          <a:lnTo>
                            <a:pt x="18" y="152"/>
                          </a:lnTo>
                          <a:lnTo>
                            <a:pt x="5" y="142"/>
                          </a:lnTo>
                          <a:lnTo>
                            <a:pt x="2" y="133"/>
                          </a:lnTo>
                          <a:lnTo>
                            <a:pt x="0" y="119"/>
                          </a:lnTo>
                          <a:lnTo>
                            <a:pt x="3" y="97"/>
                          </a:lnTo>
                          <a:lnTo>
                            <a:pt x="4" y="71"/>
                          </a:lnTo>
                          <a:lnTo>
                            <a:pt x="5" y="54"/>
                          </a:lnTo>
                          <a:lnTo>
                            <a:pt x="9" y="38"/>
                          </a:lnTo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1668" name="Freeform 33"/>
              <p:cNvSpPr/>
              <p:nvPr/>
            </p:nvSpPr>
            <p:spPr>
              <a:xfrm>
                <a:off x="8307360" y="5956200"/>
                <a:ext cx="120600" cy="7632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0" y="0"/>
                    </a:moveTo>
                    <a:lnTo>
                      <a:pt x="72" y="28"/>
                    </a:lnTo>
                    <a:lnTo>
                      <a:pt x="76" y="37"/>
                    </a:lnTo>
                    <a:lnTo>
                      <a:pt x="73" y="43"/>
                    </a:lnTo>
                    <a:lnTo>
                      <a:pt x="62" y="48"/>
                    </a:lnTo>
                    <a:lnTo>
                      <a:pt x="49" y="45"/>
                    </a:lnTo>
                    <a:lnTo>
                      <a:pt x="37" y="3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69" name="Freeform 34"/>
              <p:cNvSpPr/>
              <p:nvPr/>
            </p:nvSpPr>
            <p:spPr>
              <a:xfrm>
                <a:off x="7496280" y="6067440"/>
                <a:ext cx="115920" cy="108000"/>
              </a:xfrm>
              <a:custGeom>
                <a:avLst/>
                <a:gdLst/>
                <a:ahLst/>
                <a:rect l="l" t="t" r="r" b="b"/>
                <a:pathLst>
                  <a:path w="73" h="68">
                    <a:moveTo>
                      <a:pt x="0" y="0"/>
                    </a:moveTo>
                    <a:lnTo>
                      <a:pt x="30" y="10"/>
                    </a:lnTo>
                    <a:lnTo>
                      <a:pt x="51" y="22"/>
                    </a:lnTo>
                    <a:lnTo>
                      <a:pt x="68" y="40"/>
                    </a:lnTo>
                    <a:lnTo>
                      <a:pt x="73" y="55"/>
                    </a:lnTo>
                    <a:lnTo>
                      <a:pt x="72" y="59"/>
                    </a:lnTo>
                    <a:lnTo>
                      <a:pt x="69" y="67"/>
                    </a:lnTo>
                    <a:lnTo>
                      <a:pt x="66" y="68"/>
                    </a:lnTo>
                    <a:lnTo>
                      <a:pt x="55" y="66"/>
                    </a:lnTo>
                    <a:lnTo>
                      <a:pt x="46" y="52"/>
                    </a:lnTo>
                    <a:lnTo>
                      <a:pt x="43" y="35"/>
                    </a:lnTo>
                    <a:lnTo>
                      <a:pt x="30" y="22"/>
                    </a:lnTo>
                    <a:lnTo>
                      <a:pt x="15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0" name="Freeform 35"/>
              <p:cNvSpPr/>
              <p:nvPr/>
            </p:nvSpPr>
            <p:spPr>
              <a:xfrm>
                <a:off x="6865920" y="5486400"/>
                <a:ext cx="200160" cy="66600"/>
              </a:xfrm>
              <a:custGeom>
                <a:avLst/>
                <a:gdLst/>
                <a:ahLst/>
                <a:rect l="l" t="t" r="r" b="b"/>
                <a:pathLst>
                  <a:path w="126" h="42">
                    <a:moveTo>
                      <a:pt x="108" y="13"/>
                    </a:moveTo>
                    <a:lnTo>
                      <a:pt x="85" y="4"/>
                    </a:lnTo>
                    <a:lnTo>
                      <a:pt x="58" y="0"/>
                    </a:lnTo>
                    <a:lnTo>
                      <a:pt x="30" y="2"/>
                    </a:lnTo>
                    <a:lnTo>
                      <a:pt x="10" y="11"/>
                    </a:lnTo>
                    <a:lnTo>
                      <a:pt x="0" y="24"/>
                    </a:lnTo>
                    <a:lnTo>
                      <a:pt x="1" y="38"/>
                    </a:lnTo>
                    <a:lnTo>
                      <a:pt x="13" y="42"/>
                    </a:lnTo>
                    <a:lnTo>
                      <a:pt x="24" y="34"/>
                    </a:lnTo>
                    <a:lnTo>
                      <a:pt x="36" y="23"/>
                    </a:lnTo>
                    <a:lnTo>
                      <a:pt x="52" y="15"/>
                    </a:lnTo>
                    <a:lnTo>
                      <a:pt x="71" y="12"/>
                    </a:lnTo>
                    <a:lnTo>
                      <a:pt x="92" y="15"/>
                    </a:lnTo>
                    <a:lnTo>
                      <a:pt x="126" y="23"/>
                    </a:lnTo>
                    <a:lnTo>
                      <a:pt x="104" y="12"/>
                    </a:lnTo>
                    <a:lnTo>
                      <a:pt x="108" y="13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71" name="Freeform 36"/>
              <p:cNvSpPr/>
              <p:nvPr/>
            </p:nvSpPr>
            <p:spPr>
              <a:xfrm>
                <a:off x="6926400" y="5608800"/>
                <a:ext cx="168120" cy="125280"/>
              </a:xfrm>
              <a:custGeom>
                <a:avLst/>
                <a:gdLst/>
                <a:ahLst/>
                <a:rect l="l" t="t" r="r" b="b"/>
                <a:pathLst>
                  <a:path w="106" h="79">
                    <a:moveTo>
                      <a:pt x="86" y="1"/>
                    </a:moveTo>
                    <a:lnTo>
                      <a:pt x="62" y="6"/>
                    </a:lnTo>
                    <a:lnTo>
                      <a:pt x="37" y="17"/>
                    </a:lnTo>
                    <a:lnTo>
                      <a:pt x="15" y="33"/>
                    </a:lnTo>
                    <a:lnTo>
                      <a:pt x="2" y="51"/>
                    </a:lnTo>
                    <a:lnTo>
                      <a:pt x="0" y="67"/>
                    </a:lnTo>
                    <a:lnTo>
                      <a:pt x="8" y="79"/>
                    </a:lnTo>
                    <a:lnTo>
                      <a:pt x="20" y="76"/>
                    </a:lnTo>
                    <a:lnTo>
                      <a:pt x="26" y="63"/>
                    </a:lnTo>
                    <a:lnTo>
                      <a:pt x="29" y="47"/>
                    </a:lnTo>
                    <a:lnTo>
                      <a:pt x="40" y="32"/>
                    </a:lnTo>
                    <a:lnTo>
                      <a:pt x="55" y="20"/>
                    </a:lnTo>
                    <a:lnTo>
                      <a:pt x="74" y="11"/>
                    </a:lnTo>
                    <a:lnTo>
                      <a:pt x="106" y="0"/>
                    </a:lnTo>
                    <a:lnTo>
                      <a:pt x="82" y="2"/>
                    </a:lnTo>
                    <a:lnTo>
                      <a:pt x="86" y="1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72" name="AutoShape 41"/>
          <p:cNvSpPr/>
          <p:nvPr/>
        </p:nvSpPr>
        <p:spPr>
          <a:xfrm>
            <a:off x="6634080" y="3672000"/>
            <a:ext cx="1571760" cy="909360"/>
          </a:xfrm>
          <a:prstGeom prst="borderCallout2">
            <a:avLst>
              <a:gd name="adj1" fmla="val 18750"/>
              <a:gd name="adj2" fmla="val -8333"/>
              <a:gd name="adj3" fmla="val 12564"/>
              <a:gd name="adj4" fmla="val -23129"/>
              <a:gd name="adj5" fmla="val 105236"/>
              <a:gd name="adj6" fmla="val -4212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–S on ver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3T21:17:21Z</dcterms:created>
  <dc:creator>Linda J. Stine</dc:creator>
  <dc:description/>
  <dc:language>en-US</dc:language>
  <cp:lastModifiedBy>Nadia Williams</cp:lastModifiedBy>
  <dcterms:modified xsi:type="dcterms:W3CDTF">2014-03-12T16:06:49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